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3368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02080" y="0"/>
            <a:ext cx="3368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084320" y="752400"/>
            <a:ext cx="5594400" cy="376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08920" cy="4518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9551880"/>
            <a:ext cx="3368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7"/>
          </p:nvPr>
        </p:nvSpPr>
        <p:spPr>
          <a:xfrm>
            <a:off x="4401720" y="9550080"/>
            <a:ext cx="3359160" cy="493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00ADF-B5CA-43CD-BAF5-72A753585075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084320" y="754200"/>
            <a:ext cx="5603760" cy="377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03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2080" y="9551880"/>
            <a:ext cx="3368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76AD433-6933-411C-9701-FB9959047A8D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084320" y="752400"/>
            <a:ext cx="559764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03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03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03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03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03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03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03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03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03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084320" y="752400"/>
            <a:ext cx="559764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03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03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E1FE-C4BA-4D94-AF67-6419FD1B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6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9240" y="119052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9240" y="378936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D642-B05E-4DCB-A12B-99548176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6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9240" y="119052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0000" y="119052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9240" y="37893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0000" y="37893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FA04-C829-4565-8BDA-EA65EFDCD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6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9240" y="119052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1400" y="119052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3560" y="119052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9240" y="37893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1400" y="37893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3560" y="37893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17FF-68C7-41F3-BF09-A8BD5CEB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3FB58-4899-4A5B-B38E-45985476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6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9240" y="1190520"/>
            <a:ext cx="905652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95690-85C2-4AAB-942B-AB5A6414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6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9240" y="1190520"/>
            <a:ext cx="905652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82EE2-1D43-49A7-B7C6-F68493A5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6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9240" y="1190520"/>
            <a:ext cx="441936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50000" y="1190520"/>
            <a:ext cx="441936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1CEAE-CDA9-4E56-AF78-F666CA94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6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D382E-41E2-489D-B0DA-0C85B030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5652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-341280"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7A6FD-859B-477F-A1C3-ADC256CF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6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240" y="119052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50000" y="1190520"/>
            <a:ext cx="441936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9240" y="37893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2D4F8-5E60-4A68-8103-4A2809D6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6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9240" y="1190520"/>
            <a:ext cx="905652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A109-62F9-47BF-A06F-982D3979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6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9240" y="1190520"/>
            <a:ext cx="441936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50000" y="119052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0" y="37893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CA331-6803-4B71-9D5E-347A2BE0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6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9240" y="119052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0000" y="119052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9240" y="378936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D6608-62E5-4B59-BBA7-3F17F0F2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6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9240" y="119052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240" y="378936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B48E2-F3C6-44E6-A4CA-7E2FD49B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6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9240" y="119052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50000" y="119052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9240" y="37893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50000" y="37893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68F05-B4BA-4C99-9350-7287CE26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6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9240" y="119052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1400" y="119052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3560" y="119052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9240" y="37893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1400" y="37893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3560" y="37893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BF04E-40DB-4AFB-BD38-4044C9030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6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9240" y="1190520"/>
            <a:ext cx="905652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F815-416F-46EC-A707-40A49C10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6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9240" y="1190520"/>
            <a:ext cx="441936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50000" y="1190520"/>
            <a:ext cx="441936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1694-3C3F-410B-8789-C2114B49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6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6942-ACAA-4B53-B835-864F3980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5652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-341280"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0336-3DC2-4F78-B0D7-7A9D5294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6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9240" y="119052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0000" y="1190520"/>
            <a:ext cx="441936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9240" y="37893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E3AF-1B9F-46FD-9029-A45856D7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6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9240" y="1190520"/>
            <a:ext cx="441936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50000" y="119052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0000" y="37893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04FA-FA3A-4781-89F5-15839D6E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6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9240" y="119052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0000" y="119052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9240" y="378936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2D0E-87E4-4D71-A88B-1E8EFA71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6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190520"/>
            <a:ext cx="905652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lnSpc>
                <a:spcPct val="6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341280">
              <a:lnSpc>
                <a:spcPct val="6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1280" indent="-341280">
              <a:lnSpc>
                <a:spcPct val="6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1280" indent="-341280">
              <a:lnSpc>
                <a:spcPct val="6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1280" indent="-341280">
              <a:lnSpc>
                <a:spcPct val="6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1280" indent="-341280">
              <a:lnSpc>
                <a:spcPct val="6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335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13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3388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30BB716-D621-46AA-A883-6C0F45DDFC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2160" y="100080"/>
            <a:ext cx="1449360" cy="61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514840" y="7034040"/>
            <a:ext cx="45244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© 2009 NTT Information Sharing Platform Labora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7908" r="0" b="0"/>
          <a:stretch/>
        </p:blipFill>
        <p:spPr>
          <a:xfrm>
            <a:off x="1230480" y="1081080"/>
            <a:ext cx="3014640" cy="144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230480" y="1239840"/>
            <a:ext cx="3014640" cy="260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76120" y="290520"/>
            <a:ext cx="2065320" cy="717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76120" y="4811760"/>
            <a:ext cx="9526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14600" y="363240"/>
            <a:ext cx="70516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40840" y="1142640"/>
            <a:ext cx="9356760" cy="61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1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lnSpc>
                <a:spcPct val="8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341280">
              <a:lnSpc>
                <a:spcPct val="8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1280" indent="-341280">
              <a:lnSpc>
                <a:spcPct val="8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1280" indent="-341280">
              <a:lnSpc>
                <a:spcPct val="8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1280" indent="-341280">
              <a:lnSpc>
                <a:spcPct val="8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1280" indent="-341280">
              <a:lnSpc>
                <a:spcPct val="8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0" y="7034040"/>
            <a:ext cx="70488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2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3AD4D9-679A-4DFE-B8DC-F8625054376F}" type="slidenum">
              <a:rPr b="0" lang="en-GB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5"/>
          </p:nvPr>
        </p:nvSpPr>
        <p:spPr>
          <a:xfrm>
            <a:off x="502920" y="688644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3446280" y="6886440"/>
            <a:ext cx="3184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55640" y="1933560"/>
            <a:ext cx="85676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Proxying Assurance Between OpenID &amp; SAML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Paul Madsen, NTT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7034040"/>
            <a:ext cx="714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AC16AFA-75FA-47B9-9590-40DB2775DF1C}" type="slidenum">
              <a:rPr b="0" lang="en-GB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6360" y="5329080"/>
            <a:ext cx="37407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SA Conference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298440"/>
            <a:ext cx="9059760" cy="711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penID into SA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142040" y="6402240"/>
            <a:ext cx="22305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48FAA48-6F3C-41A6-AA24-F4DCC29069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1680" y="1371600"/>
            <a:ext cx="1193760" cy="314280"/>
          </a:xfrm>
          <a:prstGeom prst="rect">
            <a:avLst/>
          </a:prstGeom>
          <a:solidFill>
            <a:srgbClr val="ffff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ser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165320" y="1685880"/>
            <a:ext cx="7920" cy="487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36720" y="1371600"/>
            <a:ext cx="1195560" cy="314280"/>
          </a:xfrm>
          <a:prstGeom prst="rect">
            <a:avLst/>
          </a:prstGeom>
          <a:solidFill>
            <a:srgbClr val="ffff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328920" y="1685880"/>
            <a:ext cx="7920" cy="487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02120" y="1371600"/>
            <a:ext cx="1195560" cy="314280"/>
          </a:xfrm>
          <a:prstGeom prst="rect">
            <a:avLst/>
          </a:prstGeom>
          <a:solidFill>
            <a:srgbClr val="ffff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P+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495400" y="1685880"/>
            <a:ext cx="8280" cy="487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67520" y="1371600"/>
            <a:ext cx="1195560" cy="314280"/>
          </a:xfrm>
          <a:prstGeom prst="rect">
            <a:avLst/>
          </a:prstGeom>
          <a:solidFill>
            <a:srgbClr val="ffff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7661160" y="1685880"/>
            <a:ext cx="7920" cy="487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"/>
          <p:cNvCxnSpPr/>
          <p:nvPr/>
        </p:nvCxnSpPr>
        <p:spPr>
          <a:xfrm>
            <a:off x="1168560" y="1920600"/>
            <a:ext cx="2165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1101600" y="2422440"/>
            <a:ext cx="4378320" cy="206640"/>
          </a:xfrm>
          <a:prstGeom prst="pie">
            <a:avLst/>
          </a:prstGeom>
          <a:noFill/>
          <a:ln w="28440">
            <a:solidFill>
              <a:srgbClr val="7030a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01600" y="3457440"/>
            <a:ext cx="6562800" cy="193680"/>
          </a:xfrm>
          <a:prstGeom prst="pie">
            <a:avLst/>
          </a:prstGeom>
          <a:noFill/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095480" y="4321800"/>
            <a:ext cx="6562800" cy="269640"/>
          </a:xfrm>
          <a:prstGeom prst="pie">
            <a:avLst/>
          </a:prstGeom>
          <a:noFill/>
          <a:ln w="28440">
            <a:solidFill>
              <a:srgbClr val="c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095480" y="5252400"/>
            <a:ext cx="4378320" cy="206280"/>
          </a:xfrm>
          <a:prstGeom prst="pie">
            <a:avLst/>
          </a:prstGeom>
          <a:noFill/>
          <a:ln w="28440">
            <a:solidFill>
              <a:srgbClr val="7030a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"/>
          <p:cNvCxnSpPr/>
          <p:nvPr/>
        </p:nvCxnSpPr>
        <p:spPr>
          <a:xfrm flipH="1">
            <a:off x="1168200" y="6244920"/>
            <a:ext cx="2165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2513160" y="2079720"/>
            <a:ext cx="1866600" cy="2365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. Using ‘Single Sign on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61040" y="1685880"/>
            <a:ext cx="84816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.  Servic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33880" y="2629080"/>
            <a:ext cx="464292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. Redirect to OP with OpenID -Request  including PAPE-multifactor  &lt;OpenI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56200" y="2901960"/>
            <a:ext cx="2836800" cy="4348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 OP can not provide multi-factor Authentication  , so ask for IDP hel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96400" y="3606840"/>
            <a:ext cx="276084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5.Redirect to IDP with AuthnRequest &lt;SA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69080" y="3886200"/>
            <a:ext cx="1866960" cy="3142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6. Authent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endCxn id="167" idx="1"/>
          </p:cNvCxnSpPr>
          <p:nvPr/>
        </p:nvCxnSpPr>
        <p:spPr>
          <a:xfrm>
            <a:off x="1168200" y="4043520"/>
            <a:ext cx="5601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1782360" y="4594320"/>
            <a:ext cx="289512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. Redirect to IDP with AuthnResponse &lt;SA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76640" y="4830840"/>
            <a:ext cx="1866960" cy="3142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8. Parse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89560" y="5459400"/>
            <a:ext cx="305964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9. Redirect to RP with OpenIDResponse &lt;OpenI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87680" y="5773680"/>
            <a:ext cx="1866960" cy="3142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. Parse Asser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61040" y="6245280"/>
            <a:ext cx="84816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1.  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ssues/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14720" indent="-311040">
              <a:lnSpc>
                <a:spcPct val="7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APE does not define a password U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7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AML does not (yet) define how to bind the NIST 800 63 assurance levels to AuthnCon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7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APE does not allow RP to request a specific LoA, only a particular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7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info should persist across boundaries, e.g. the actual authenticating author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7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n we presume that the two protocols are equivalent with respect to LoA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deration protocols like SAML &amp; OpenID may be deployed in 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derated identity requires assurance information to flow along with identity information for anything but trivial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'Policy interoperability' requires that assurance policy can persist across the boundaries between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ease join NRI, NTT, &amp; Oracle at our workshop pod to see these use cases demonstra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otocol Mash-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53880" y="1412640"/>
            <a:ext cx="9329760" cy="57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, the various identity protocols are being (or contemplated) deployed in comb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nID, SAML, Infocards, ID-WSF, Oauth, WS-Federation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cols not generally designed on the assumption of being deployed in 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equently, policy impedance possible at the jo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examine such impedance issues for assurance between OpenID &amp; SAM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ssu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2560" y="1577520"/>
            <a:ext cx="8799480" cy="55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urance refers to the degree of confidence a Relying Party can ascribe to the assertions/claims of an I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urance determined by a combination of legal, business, technical, and procedur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urance frameworks (e.g. NIST 800 63, etc) quantify levels of assurance by stipulating the technical and procedural aspects to be followed by federated partners for eac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ypically 3-4 levels defined, ranging from low to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deration actors can refer to the more manageable LOA rather than the constituent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penID &amp; Assu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6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nID Provider Authentication Policy Extension (PAPE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fines an extension to core OpenID protocol by which RP/OPs can 'discuss' the nature of the authenti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PE standardizes 3 U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2400" indent="-279720">
              <a:lnSpc>
                <a:spcPct val="8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400" indent="-279720">
              <a:lnSpc>
                <a:spcPct val="8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factor Hard to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400" indent="-279720">
              <a:lnSpc>
                <a:spcPct val="8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hishing Resi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8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allows OPs to indicate assurance in terms of NIST 800 63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AML &amp; Assu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8520" y="1572840"/>
            <a:ext cx="9510480" cy="55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ML allows IDP/SP to  indicate assurance policy on SSO messages w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2600">
              <a:lnSpc>
                <a:spcPct val="8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ty proofing (e.g. Email verification or f2f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2600">
              <a:lnSpc>
                <a:spcPct val="8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urity processes (e.g. Key storage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2600">
              <a:lnSpc>
                <a:spcPct val="8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uthentication specifics (e.g. Biometric or OTP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8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of related mechanisms referred to as 'Authentication Context'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uthentication Context 'classes' capture common combinations of above aspects - SSTC defined a number, e.g. 'mobile-no contract'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 classes can be defined by other some communities (not without some difficulty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otivating Use C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APE &amp; SAML AC, while logically similar, are not perfectly compati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sider the following use cases that hilite the need for mapping assurance between SAML &amp; Open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2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se Case #1 – SAML SP sta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2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se Case #2 – OpenID RP sta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Use Case #1 – SAML into Open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31840" y="1420920"/>
            <a:ext cx="984888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SAML IDP provides strong authentication services to a community of R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SAML IDP wants to focus on strong authentication, and to  outsource low assurance requests to OPs through Open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260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or SAML IDP, can focus on (high-margin) strong authent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260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or SAML RPs, can leverage their existing IDP relationship to mediate those with O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260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or OpenID OPs, (indirect) access to those erstwhile exclusively SAML R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298440"/>
            <a:ext cx="9059760" cy="711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AML into Open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13760" y="6402240"/>
            <a:ext cx="22874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D29554B-06A1-4B7B-A1D8-E36CFE8DE4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1680" y="1371600"/>
            <a:ext cx="1225440" cy="31428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ser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179360" y="1685880"/>
            <a:ext cx="7920" cy="487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93960" y="1371600"/>
            <a:ext cx="1225440" cy="31428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400560" y="1685880"/>
            <a:ext cx="7920" cy="487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14800" y="1371600"/>
            <a:ext cx="1225800" cy="31428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DP+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5624640" y="1685880"/>
            <a:ext cx="7920" cy="487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37440" y="1371600"/>
            <a:ext cx="1225440" cy="31428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845480" y="1685880"/>
            <a:ext cx="7920" cy="487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/>
          <p:nvPr/>
        </p:nvCxnSpPr>
        <p:spPr>
          <a:xfrm>
            <a:off x="1184040" y="1920600"/>
            <a:ext cx="222300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1114560" y="2579760"/>
            <a:ext cx="4492440" cy="206280"/>
          </a:xfrm>
          <a:prstGeom prst="pie">
            <a:avLst/>
          </a:prstGeom>
          <a:noFill/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4560" y="3381480"/>
            <a:ext cx="6732360" cy="269640"/>
          </a:xfrm>
          <a:prstGeom prst="pie">
            <a:avLst/>
          </a:prstGeom>
          <a:noFill/>
          <a:ln w="28440">
            <a:solidFill>
              <a:srgbClr val="7030a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108080" y="4321800"/>
            <a:ext cx="6732720" cy="269640"/>
          </a:xfrm>
          <a:prstGeom prst="pie">
            <a:avLst/>
          </a:prstGeom>
          <a:noFill/>
          <a:ln w="28440">
            <a:solidFill>
              <a:srgbClr val="7030a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108080" y="5252400"/>
            <a:ext cx="4492800" cy="206280"/>
          </a:xfrm>
          <a:prstGeom prst="pie">
            <a:avLst/>
          </a:prstGeom>
          <a:noFill/>
          <a:ln w="28440">
            <a:solidFill>
              <a:srgbClr val="c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/>
          <p:nvPr/>
        </p:nvCxnSpPr>
        <p:spPr>
          <a:xfrm flipH="1">
            <a:off x="1183680" y="6244920"/>
            <a:ext cx="22215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2563920" y="2079720"/>
            <a:ext cx="1914480" cy="3142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. Select ‘Single Sign on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01000" y="1685880"/>
            <a:ext cx="84816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.  Servic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88400" y="2786040"/>
            <a:ext cx="279576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. Redirect to IDP with AuthnRequest &lt;SA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62520" y="2943360"/>
            <a:ext cx="1914480" cy="3142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 Click ‘use OpenID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77760" y="3606840"/>
            <a:ext cx="297576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5.Redirect to OP with OpenID-Request &lt;OpenI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29280" y="3886200"/>
            <a:ext cx="1914840" cy="3142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6. Input ID/Passwo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endCxn id="137" idx="1"/>
          </p:cNvCxnSpPr>
          <p:nvPr/>
        </p:nvCxnSpPr>
        <p:spPr>
          <a:xfrm>
            <a:off x="1184400" y="4043520"/>
            <a:ext cx="5745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1865880" y="4594320"/>
            <a:ext cx="313740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. Redirect to IDP with OpenID-Response &lt;OpenI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91120" y="4830840"/>
            <a:ext cx="1914480" cy="3142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8. Parse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48960" y="5459400"/>
            <a:ext cx="285228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9. Redirect to SP with AuthnResponse &lt;SA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39880" y="5773680"/>
            <a:ext cx="1914480" cy="3142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. Parse Asser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01000" y="6245280"/>
            <a:ext cx="84816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1.  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Use Case #2 – OpenID into SA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31840" y="1420560"/>
            <a:ext cx="9848880" cy="55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n OpenID OP provides low assurance password-based SSO to community of R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P does not itself support higher assurance authentication mechanis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or OpenID RPs that require higher assurance, the OP will proxy relevant authentication requests through SAML SSO to an IDP capable of meeting those higher assurance requirement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260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or OpenID RPs, (indirectly) access higher assurance IDPs without necessarily establishing relationships with SAML IDPs or supporting SA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