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3368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02080" y="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84320" y="752400"/>
            <a:ext cx="55944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08920" cy="4518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551880"/>
            <a:ext cx="3368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7"/>
          </p:nvPr>
        </p:nvSpPr>
        <p:spPr>
          <a:xfrm>
            <a:off x="4401720" y="9550080"/>
            <a:ext cx="335916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05E15-B225-476B-A41F-43D785B234C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4320" y="754200"/>
            <a:ext cx="5603760" cy="37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2080" y="95518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C17B49-62E6-4E32-B878-99F39823E2B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84320" y="752400"/>
            <a:ext cx="559764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84320" y="752400"/>
            <a:ext cx="559764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03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0D5-F89F-4A77-BBAE-DC105737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078-ECB5-4F62-B1CC-2B7E19E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B34-FC60-4C9E-98EF-496B49BB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140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356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924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140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356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B4D-F446-4212-A91C-D0D71F4B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B5473-77B7-4902-B3AA-9614305A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C279-3914-44B7-B937-FE32034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6F588-9010-4A07-9774-C0B2D18B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341E-FEFA-4D81-BCD5-3AE3515E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5AE01-7A48-4396-8766-060E2B41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65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02B53-62BA-40CE-91A1-75AF7A5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BE824-4C56-4AEF-BEC1-1AEF4B5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326-A6EC-4403-A912-C337BDA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89AC7-E6B0-4A51-B39D-7CCD33AF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F67B0-A811-4A2F-9438-5636375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E8F0E-8EBD-4D58-8F7D-6AFE544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78840-B8E5-4344-9B3B-B1C28060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140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19052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140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37893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B4FAD-A43A-44D7-AF5D-BAD2EA17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06D-983F-476D-8222-B10AD50A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125-3B41-4F2A-8F41-E076AAF3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1CE-F858-443D-866D-94948F0C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65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1280" indent="-341280"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3A9-169F-4199-97E5-95C1FEB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0D1-CF2D-410F-8E21-36423BB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0" y="37893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706-E9D5-4726-88CF-207D28D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924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0" y="119052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9240" y="37893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464-09A2-486F-90AF-17BEA9B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6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190520"/>
            <a:ext cx="9056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35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13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F2B9F9-C2DD-488D-9232-6D434A0E43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2160" y="100080"/>
            <a:ext cx="144936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14840" y="7034040"/>
            <a:ext cx="4524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2009 NTT Information Sharing Platform Labor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908" r="0" b="0"/>
          <a:stretch/>
        </p:blipFill>
        <p:spPr>
          <a:xfrm>
            <a:off x="1230480" y="1081080"/>
            <a:ext cx="3014640" cy="14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30480" y="1239840"/>
            <a:ext cx="3014640" cy="26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76120" y="290520"/>
            <a:ext cx="2065320" cy="71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6120" y="4811760"/>
            <a:ext cx="952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363240"/>
            <a:ext cx="70516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40840" y="1142640"/>
            <a:ext cx="9356760" cy="61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1280" indent="-34128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0" y="7034040"/>
            <a:ext cx="70488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78046B-DEC0-447D-9902-8CBD10704DCE}" type="slidenum">
              <a:rPr b="0" lang="en-GB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446280" y="6886440"/>
            <a:ext cx="3184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933560"/>
            <a:ext cx="8567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oxying Assurance Between OpenID &amp; SAML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aul Madsen, NTT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034040"/>
            <a:ext cx="714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0FEB52-EDA0-4C47-9AF8-FB9B6F96982F}" type="slidenum">
              <a:rPr b="0" lang="en-GB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360" y="5329080"/>
            <a:ext cx="3740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SA Conferenc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298440"/>
            <a:ext cx="9059760" cy="711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ID into SA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42040" y="6402240"/>
            <a:ext cx="22305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95ED93-5F15-4039-B1C5-FFF8BC0CAA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680" y="1371600"/>
            <a:ext cx="11937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6532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367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32892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+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95400" y="1685880"/>
            <a:ext cx="828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67520" y="1371600"/>
            <a:ext cx="1195560" cy="314280"/>
          </a:xfrm>
          <a:prstGeom prst="rect">
            <a:avLst/>
          </a:prstGeom>
          <a:solidFill>
            <a:srgbClr val="ffff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6611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>
            <a:off x="1168560" y="1920600"/>
            <a:ext cx="2165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101600" y="2422440"/>
            <a:ext cx="4378320" cy="206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1600" y="3457440"/>
            <a:ext cx="6562800" cy="1936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95480" y="4321800"/>
            <a:ext cx="6562800" cy="26964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095480" y="5252400"/>
            <a:ext cx="4378320" cy="206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/>
          <p:nvPr/>
        </p:nvCxnSpPr>
        <p:spPr>
          <a:xfrm flipH="1">
            <a:off x="1168200" y="6244920"/>
            <a:ext cx="2165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2513160" y="2079720"/>
            <a:ext cx="1866600" cy="236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. Using ‘Single Sign o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61040" y="16858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 Servi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3880" y="2629080"/>
            <a:ext cx="46429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. Redirect to OP with OpenID -Request  including PAPE-multifactor 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56200" y="2901960"/>
            <a:ext cx="2836800" cy="434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 OP can not provide multi-factor Authentication  , so ask for IDP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6400" y="3606840"/>
            <a:ext cx="27608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Redirect to IDP with AuthnRequest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88620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.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endCxn id="167" idx="1"/>
          </p:cNvCxnSpPr>
          <p:nvPr/>
        </p:nvCxnSpPr>
        <p:spPr>
          <a:xfrm>
            <a:off x="1168200" y="4043520"/>
            <a:ext cx="560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782360" y="4594320"/>
            <a:ext cx="289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. Redirect to IDP with AuthnResponse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76640" y="483084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. Parse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89560" y="5459400"/>
            <a:ext cx="3059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. Redirect to RP with OpenIDResponse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87680" y="5773680"/>
            <a:ext cx="186696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. Parse Asse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61040" y="62452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. 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sues/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PE does not define a password 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does not (yet) define how to bind the NIST 800 63 assurance levels to Authn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PE does not allow RP to request a specific LoA, only a particular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nfo should persist across boundaries, e.g. the actual authenticating author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7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we presume that the two protocols are equivalent with respect to Lo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deration protocols like SAML &amp; OpenID may be deployed in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derated identity requires assurance information to flow along with identity information for anything but trivi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'Policy interoperability' requires that assurance policy can persist across the boundaries betwee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join NRI, NTT, &amp; Oracle at our workshop pod to see these use cases demonstr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tocol Mash-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3880" y="1412640"/>
            <a:ext cx="93297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, the various identity protocols are being (or contemplated) deployed in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ID, SAML, Infocards, ID-WSF, Oauth, WS-Federation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cols not generally designed on the assumption of being deployed in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equently, policy impedance possible at the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examine such impedance issues for assurance between OpenID &amp; SA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560" y="1577520"/>
            <a:ext cx="879948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refers to the degree of confidence a Relying Party can ascribe to the assertions/claims of an I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determined by a combination of legal, business, technical, and procedu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rance frameworks (e.g. NIST 800 63, etc) quantify levels of assurance by stipulating the technical and procedural aspects to be followed by federated partners for eac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ypically 3-4 levels defined, ranging from low t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deration actors can refer to the more manageable LOA rather than the constitue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ID &amp;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ID Provider Authentication Policy Extension (PAP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s an extension to core OpenID protocol by which RP/OPs can 'discuss' the nature of the authent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PE standardizes 3 U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factor Hard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27972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shing Re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allows OPs to indicate assurance in terms of NIST 800 63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&amp;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8520" y="1572840"/>
            <a:ext cx="95104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L allows IDP/SP to  indicate assurance policy on SSO messages w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ty proofing (e.g. Email verification or f2f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urity processes (e.g. Key storag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on specifics (e.g. Biometric or OT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of related mechanisms referred to as 'Authentication Context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hentication Context 'classes' capture common combinations of above aspects - SSTC defined a number, e.g. 'mobile-no contract'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classes can be defined by other some communities (not without some difficult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tivating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PE &amp; SAML AC, while logically similar, are not perfectly compa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sider the following use cases that hilite the need for mapping assurance between SAML &amp; Open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Case #1 – SAML SP st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Case #2 – OpenID RP st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Case #1 – SAML into Ope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1840" y="1420920"/>
            <a:ext cx="984888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SAML IDP provides strong authentication services to a community of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SAML IDP wants to focus on strong authentication, and to  outsource low assurance requests to OPs through Open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AML IDP, can focus on (high-margin) strong 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AML RPs, can leverage their existing IDP relationship to mediate those with 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OPs, (indirect) access to those erstwhile exclusively SAML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98440"/>
            <a:ext cx="9059760" cy="711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ML into Open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3760" y="6402240"/>
            <a:ext cx="22874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8A4FDB-F974-4050-BFD9-EB31FB75D1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1793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9396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40056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4800" y="1371600"/>
            <a:ext cx="122580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P+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2464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7440" y="1371600"/>
            <a:ext cx="1225440" cy="3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45480" y="1685880"/>
            <a:ext cx="7920" cy="48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1184040" y="1920600"/>
            <a:ext cx="2223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114560" y="2579760"/>
            <a:ext cx="4492440" cy="2062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4560" y="3381480"/>
            <a:ext cx="6732360" cy="269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08080" y="4321800"/>
            <a:ext cx="6732720" cy="26964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08080" y="5252400"/>
            <a:ext cx="4492800" cy="206280"/>
          </a:xfrm>
          <a:prstGeom prst="pie">
            <a:avLst/>
          </a:prstGeom>
          <a:noFill/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>
            <a:off x="1183680" y="6244920"/>
            <a:ext cx="2221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563920" y="207972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. Select ‘Single Sign on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01000" y="16858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 Servi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8400" y="2786040"/>
            <a:ext cx="2795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. Redirect to IDP with AuthnRequest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94336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 Click ‘use OpenID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77760" y="3606840"/>
            <a:ext cx="2975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Redirect to OP with OpenID-Request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29280" y="3886200"/>
            <a:ext cx="191484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6. Input ID/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endCxn id="137" idx="1"/>
          </p:cNvCxnSpPr>
          <p:nvPr/>
        </p:nvCxnSpPr>
        <p:spPr>
          <a:xfrm>
            <a:off x="1184400" y="4043520"/>
            <a:ext cx="5745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865880" y="4594320"/>
            <a:ext cx="313740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. Redirect to IDP with OpenID-Response &lt;Open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91120" y="483084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8. Parse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48960" y="5459400"/>
            <a:ext cx="2852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9. Redirect to SP with AuthnResponse &lt;SA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39880" y="5773680"/>
            <a:ext cx="1914480" cy="314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0. Parse Asser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01000" y="6245280"/>
            <a:ext cx="8481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1. 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Case #2 – OpenID into SA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31840" y="1420560"/>
            <a:ext cx="984888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 OpenID OP provides low assurance password-based SSO to community of R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 does not itself support higher assurance authentication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RPs that require higher assurance, the OP will proxy relevant authentication requests through SAML SSO to an IDP capable of meeting those higher assurance requirement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2600">
              <a:lnSpc>
                <a:spcPct val="9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OpenID RPs, (indirectly) access higher assurance IDPs without necessarily establishing relationships with SAML IDPs or supporting SA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