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1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0.png" ContentType="image/png"/>
  <Override PartName="/ppt/media/image33.wmf" ContentType="image/x-wmf"/>
  <Override PartName="/ppt/media/image13.png" ContentType="image/png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7.png" ContentType="image/png"/>
  <Override PartName="/ppt/media/image12.png" ContentType="image/png"/>
  <Override PartName="/ppt/media/image29.png" ContentType="image/png"/>
  <Override PartName="/ppt/media/image32.wmf" ContentType="image/x-wmf"/>
  <Override PartName="/ppt/media/image35.wmf" ContentType="image/x-wmf"/>
  <Override PartName="/ppt/media/image15.png" ContentType="image/png"/>
  <Override PartName="/ppt/media/image8.png" ContentType="image/png"/>
  <Override PartName="/ppt/media/image36.wmf" ContentType="image/x-wmf"/>
  <Override PartName="/ppt/media/image16.png" ContentType="image/png"/>
  <Override PartName="/ppt/media/image9.png" ContentType="image/png"/>
  <Override PartName="/ppt/media/image37.wmf" ContentType="image/x-wmf"/>
  <Override PartName="/ppt/media/image5.jpeg" ContentType="image/jpe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796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434A0A6-E2A2-4870-A2D7-8F1078194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CB32C6-4104-4E6C-BD56-934AEC986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to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A14F3A-E0DC-440D-B7CA-9301AEE3B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00BE2CC-EFE9-429C-87C3-6E4800BF3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5162CA8-2F0F-427A-A686-8882AE407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C500505-89DD-41A5-9DD1-33D107FAB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2BECF7C-E1DC-4FF6-8A53-25665A1E3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EBD47E5-06A9-493E-9185-41E8F1D02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8FDC3AF-261D-41BA-B272-B5F396C43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4FB9FC4-D53F-4ADD-8142-AEED53D51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A2F1908-3FD3-4E9D-B65F-149621410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9796AD2-11E0-4D9C-9FE2-EA27E38DE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073DD1F-4AAD-436C-AA56-E6A883A97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573-99EC-422D-8BD8-AF9E6C69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5C19-9516-4636-83F3-35E5AB88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E02-B345-4201-A83B-00BFFF3F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168-25AC-4F32-BD7A-D1668982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5A7D7-E9DF-4178-9D51-FD35DF7A27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3E871-C688-4EE3-8564-A138DF7C27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063A3-97FB-47D7-A36B-291E472498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E4E24-7907-430D-83EF-F70CA00278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F1B07-73EB-44D3-A4AB-ED538F3B1B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04960" y="304560"/>
            <a:ext cx="518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154AC-2F7F-4218-B921-6F66110DA0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82A5A-ED1A-45C3-AC2D-B54012528F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A85-7BA0-4EF7-A0F7-20D6A8B3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5F214-4BBF-4180-B657-7BE7FAAE5F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661F2-E237-4A1C-9BDF-5C5DC91D0E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A395C-F515-4EF2-BABE-B7DC7729F6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9B345-50BE-4C40-889D-6BD4D05AFC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66FE5-2737-4423-88DD-3DB6D551B3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A978-B2CC-460E-8D68-9F5077B0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F3E-06F4-485C-923F-3049F29D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A67-5502-4F31-958A-68AD3243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4960" y="304560"/>
            <a:ext cx="5181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CEB6-0B50-45A7-AEB9-D8540946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5C5-1E58-48CE-9D1E-5F1271D3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46F-A84A-4CDE-8CDE-086CFDF6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6DE0-D2D7-47E8-A4F4-9DC7799F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1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OpenID Foundation Board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117F-8E89-4566-8C99-A149FCEC9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openid-logo-wordmark.png"/>
          <p:cNvPicPr/>
          <p:nvPr/>
        </p:nvPicPr>
        <p:blipFill>
          <a:blip r:embed="rId2"/>
          <a:stretch/>
        </p:blipFill>
        <p:spPr>
          <a:xfrm>
            <a:off x="457200" y="304920"/>
            <a:ext cx="307512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openid-logo-wordmark.png"/>
          <p:cNvPicPr/>
          <p:nvPr/>
        </p:nvPicPr>
        <p:blipFill>
          <a:blip r:embed="rId2"/>
          <a:stretch/>
        </p:blipFill>
        <p:spPr>
          <a:xfrm>
            <a:off x="457200" y="304920"/>
            <a:ext cx="3075120" cy="1143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OpenID Foundation Board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71DE-EFBF-4E30-9642-94E972907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3.gotomeeting.com/join/549134998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corporate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s://www.paypal.com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symantec.com/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www22.verizon.com/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microsoft.com/" TargetMode="External"/><Relationship Id="rId10" Type="http://schemas.openxmlformats.org/officeDocument/2006/relationships/image" Target="../media/image6.png"/><Relationship Id="rId11" Type="http://schemas.openxmlformats.org/officeDocument/2006/relationships/hyperlink" Target="http://www.pingidentity.com/" TargetMode="External"/><Relationship Id="rId12" Type="http://schemas.openxmlformats.org/officeDocument/2006/relationships/image" Target="../media/image7.png"/><Relationship Id="rId13" Type="http://schemas.openxmlformats.org/officeDocument/2006/relationships/hyperlink" Target="http://openid.yahoo.com/" TargetMode="External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a.com/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daon.com/" TargetMode="External"/><Relationship Id="rId4" Type="http://schemas.openxmlformats.org/officeDocument/2006/relationships/image" Target="../media/image10.png"/><Relationship Id="rId5" Type="http://schemas.openxmlformats.org/officeDocument/2006/relationships/hyperlink" Target="http://dtechllc.com/" TargetMode="External"/><Relationship Id="rId6" Type="http://schemas.openxmlformats.org/officeDocument/2006/relationships/image" Target="../media/image11.png"/><Relationship Id="rId7" Type="http://schemas.openxmlformats.org/officeDocument/2006/relationships/hyperlink" Target="http://www.telekom.com/home/" TargetMode="External"/><Relationship Id="rId8" Type="http://schemas.openxmlformats.org/officeDocument/2006/relationships/image" Target="../media/image12.png"/><Relationship Id="rId9" Type="http://schemas.openxmlformats.org/officeDocument/2006/relationships/hyperlink" Target="http://www.eidbadges.com/" TargetMode="External"/><Relationship Id="rId10" Type="http://schemas.openxmlformats.org/officeDocument/2006/relationships/image" Target="../media/image13.png"/><Relationship Id="rId11" Type="http://schemas.openxmlformats.org/officeDocument/2006/relationships/hyperlink" Target="http://www.gigya.com/" TargetMode="External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jpe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ID Foundation Board Mee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bruary 27,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:00 AM – 11:30 AM 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35 Market Street, Suite 7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n Francisco, 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 Room:  SF/Sausalito-71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773) 945-10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ccess Code: 549-134-99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3.gotomeeting.com/join/54913499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OpenID Foundation Board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2A4A-3849-43D8-8005-16F079DCB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staining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6" descr="http://openidentityexchange.org/sites/default/files/goog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0240" y="1676520"/>
            <a:ext cx="19242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http://openidentityexchange.org/sites/default/files/paypal_0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3429000"/>
            <a:ext cx="19242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http://openidentityexchange.org/sites/default/files/symantec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60680" y="3429000"/>
            <a:ext cx="192420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http://openidentityexchange.org/sites/default/files/verizon_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3120" y="3276720"/>
            <a:ext cx="192420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Microsof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19480" y="179064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Ping Identity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72200" y="1828800"/>
            <a:ext cx="2190600" cy="95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Yahoo!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05320" y="4800600"/>
            <a:ext cx="21906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porate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0" descr="CA Technolog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85960" y="144792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1" descr="Da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43360" y="137160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2" descr="dtech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53400" y="1447920"/>
            <a:ext cx="1428480" cy="857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3" descr="Deutsche Telekom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5760" y="2362320"/>
            <a:ext cx="1428480" cy="85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4" descr="eIDBadge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762280" y="257184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5" descr="Gigya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743360" y="251460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6" descr="Gluu"/>
          <p:cNvPicPr/>
          <p:nvPr/>
        </p:nvPicPr>
        <p:blipFill>
          <a:blip r:embed="rId13"/>
          <a:stretch/>
        </p:blipFill>
        <p:spPr>
          <a:xfrm>
            <a:off x="7029360" y="251460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8" descr="ID Foundry"/>
          <p:cNvPicPr/>
          <p:nvPr/>
        </p:nvPicPr>
        <p:blipFill>
          <a:blip r:embed="rId14"/>
          <a:stretch/>
        </p:blipFill>
        <p:spPr>
          <a:xfrm>
            <a:off x="533520" y="3352680"/>
            <a:ext cx="1428480" cy="857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9" descr="JanRain, Inc."/>
          <p:cNvPicPr/>
          <p:nvPr/>
        </p:nvPicPr>
        <p:blipFill>
          <a:blip r:embed="rId15"/>
          <a:stretch/>
        </p:blipFill>
        <p:spPr>
          <a:xfrm>
            <a:off x="2765520" y="3352680"/>
            <a:ext cx="1428480" cy="857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0" descr="Nomura Research Institute"/>
          <p:cNvPicPr/>
          <p:nvPr/>
        </p:nvPicPr>
        <p:blipFill>
          <a:blip r:embed="rId16"/>
          <a:stretch/>
        </p:blipFill>
        <p:spPr>
          <a:xfrm>
            <a:off x="4743360" y="3352680"/>
            <a:ext cx="1428840" cy="857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1" descr="http://openid.net/wordpress-content/uploads/2012/09/logo_s_otp.png"/>
          <p:cNvPicPr/>
          <p:nvPr/>
        </p:nvPicPr>
        <p:blipFill>
          <a:blip r:embed="rId17"/>
          <a:stretch/>
        </p:blipFill>
        <p:spPr>
          <a:xfrm>
            <a:off x="6915240" y="3352680"/>
            <a:ext cx="1428840" cy="857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2" descr="http://openid.net/wordpress-content/uploads/2013/02/logo_s_otp2.png"/>
          <p:cNvPicPr/>
          <p:nvPr/>
        </p:nvPicPr>
        <p:blipFill>
          <a:blip r:embed="rId18"/>
          <a:stretch/>
        </p:blipFill>
        <p:spPr>
          <a:xfrm>
            <a:off x="457200" y="4267080"/>
            <a:ext cx="1428840" cy="857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3" descr="Pacific East"/>
          <p:cNvPicPr/>
          <p:nvPr/>
        </p:nvPicPr>
        <p:blipFill>
          <a:blip r:embed="rId19"/>
          <a:stretch/>
        </p:blipFill>
        <p:spPr>
          <a:xfrm>
            <a:off x="2895480" y="4267080"/>
            <a:ext cx="1428840" cy="857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4" descr="Unbound ID"/>
          <p:cNvPicPr/>
          <p:nvPr/>
        </p:nvPicPr>
        <p:blipFill>
          <a:blip r:embed="rId20"/>
          <a:stretch/>
        </p:blipFill>
        <p:spPr>
          <a:xfrm>
            <a:off x="4952880" y="432432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5" descr="Salesforce.com"/>
          <p:cNvPicPr/>
          <p:nvPr/>
        </p:nvPicPr>
        <p:blipFill>
          <a:blip r:embed="rId21"/>
          <a:stretch/>
        </p:blipFill>
        <p:spPr>
          <a:xfrm>
            <a:off x="6953400" y="4400640"/>
            <a:ext cx="1428480" cy="857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6" descr="Sanda Technologies"/>
          <p:cNvPicPr/>
          <p:nvPr/>
        </p:nvPicPr>
        <p:blipFill>
          <a:blip r:embed="rId22"/>
          <a:stretch/>
        </p:blipFill>
        <p:spPr>
          <a:xfrm>
            <a:off x="476280" y="533412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7" descr="Trulioo"/>
          <p:cNvPicPr/>
          <p:nvPr/>
        </p:nvPicPr>
        <p:blipFill>
          <a:blip r:embed="rId23"/>
          <a:stretch/>
        </p:blipFill>
        <p:spPr>
          <a:xfrm>
            <a:off x="2762280" y="525780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8" descr="trustx"/>
          <p:cNvPicPr/>
          <p:nvPr/>
        </p:nvPicPr>
        <p:blipFill>
          <a:blip r:embed="rId24"/>
          <a:stretch/>
        </p:blipFill>
        <p:spPr>
          <a:xfrm>
            <a:off x="5048280" y="533412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9" descr="Peercraft"/>
          <p:cNvPicPr/>
          <p:nvPr/>
        </p:nvPicPr>
        <p:blipFill>
          <a:blip r:embed="rId25"/>
          <a:stretch/>
        </p:blipFill>
        <p:spPr>
          <a:xfrm>
            <a:off x="7182000" y="5334120"/>
            <a:ext cx="1428480" cy="857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0" descr="VMware"/>
          <p:cNvPicPr/>
          <p:nvPr/>
        </p:nvPicPr>
        <p:blipFill>
          <a:blip r:embed="rId26"/>
          <a:stretch/>
        </p:blipFill>
        <p:spPr>
          <a:xfrm>
            <a:off x="3676680" y="594360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9" descr="BioID"/>
          <p:cNvPicPr/>
          <p:nvPr/>
        </p:nvPicPr>
        <p:blipFill>
          <a:blip r:embed="rId27"/>
          <a:stretch/>
        </p:blipFill>
        <p:spPr>
          <a:xfrm>
            <a:off x="404640" y="1447920"/>
            <a:ext cx="14288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Update Append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Sheet – February 19, 2013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012-2013 Fiscal Yea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Object 1"/>
          <p:cNvGraphicFramePr/>
          <p:nvPr/>
        </p:nvGraphicFramePr>
        <p:xfrm>
          <a:off x="457200" y="1600200"/>
          <a:ext cx="8080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80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TD P&amp;L Statement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pril 2012- March 2013 Fiscal Yea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Object 1"/>
          <p:cNvGraphicFramePr/>
          <p:nvPr/>
        </p:nvGraphicFramePr>
        <p:xfrm>
          <a:off x="2133720" y="1523880"/>
          <a:ext cx="4267080" cy="490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426708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Det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as of February 19, 201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Object 1"/>
          <p:cNvGraphicFramePr/>
          <p:nvPr/>
        </p:nvGraphicFramePr>
        <p:xfrm>
          <a:off x="380880" y="1600200"/>
          <a:ext cx="836316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36316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ales Order Detai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s of February 19, 201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Object 1"/>
          <p:cNvGraphicFramePr/>
          <p:nvPr/>
        </p:nvGraphicFramePr>
        <p:xfrm>
          <a:off x="457200" y="1752480"/>
          <a:ext cx="8220240" cy="17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22024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Payable Detai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as of February 19, 201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Object 1"/>
          <p:cNvGraphicFramePr/>
          <p:nvPr/>
        </p:nvGraphicFramePr>
        <p:xfrm>
          <a:off x="609480" y="1600200"/>
          <a:ext cx="769644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769644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Desk Inquiries - 6 Month Tr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1676520" y="607860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ventures SLA = 48 hour average 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380880" y="1276200"/>
          <a:ext cx="3886200" cy="484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76200"/>
                    <a:ext cx="388620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3"/>
          <p:cNvGraphicFramePr/>
          <p:nvPr/>
        </p:nvGraphicFramePr>
        <p:xfrm>
          <a:off x="4648320" y="1371600"/>
          <a:ext cx="3855960" cy="47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371600"/>
                    <a:ext cx="3855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Desk Inquiry Categorization and Trend Analysis – January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12760" y="5218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60"/>
          <p:cNvSpPr/>
          <p:nvPr/>
        </p:nvSpPr>
        <p:spPr>
          <a:xfrm>
            <a:off x="838080" y="16765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ckets Received:                         57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Ticket Response Time:  27.41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924"/>
          <p:cNvGraphicFramePr/>
          <p:nvPr/>
        </p:nvGraphicFramePr>
        <p:xfrm>
          <a:off x="1295280" y="3886200"/>
          <a:ext cx="6400800" cy="229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Object 9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86200"/>
                    <a:ext cx="640080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nned Ag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212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ty Board Election Results:  5 Minu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ficer Election:  5 Minu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vernance:  30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, Account Chooser and Backplane WG Updates: 10 Minutes E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ke, Eric and Gre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bership Recruitment Update:  5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OpenID Foundation Board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BC61-47C6-4A84-8DDB-FB8767E70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800" y="539640"/>
            <a:ext cx="81360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ugh First Cut FY 13/14 Bud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Date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8CF3-F7D2-499D-B8FB-35298FCB3F86}" type="datetime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f497d"/>
                </a:solidFill>
                <a:latin typeface="Arial"/>
              </a:rPr>
              <a:t>Page </a:t>
            </a:r>
            <a:fld id="{C208791B-7CB4-403E-8BE9-98BBB559F9CC}" type="slidenum">
              <a:rPr b="0" lang="de-DE" sz="8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9640" y="1413000"/>
          <a:ext cx="8077320" cy="3495600"/>
        </p:xfrm>
        <a:graphic>
          <a:graphicData uri="http://schemas.openxmlformats.org/drawingml/2006/table">
            <a:tbl>
              <a:tblPr/>
              <a:tblGrid>
                <a:gridCol w="4248360"/>
                <a:gridCol w="1871640"/>
                <a:gridCol w="195732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Y12/13 YTD actuals/ EOY E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Y13/14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Managem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,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Mark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2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echn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er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9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6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nse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,3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,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Board Election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63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8 members voted, casting a total of 313 vo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 Sakimura 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Bradley 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ke Jones 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rge Fletcher 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nrik Biering 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hael Schwartz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-14 Board of Dir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 Sakim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Brad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ke J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xel Nenn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g Keeg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rge Flet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nrik Bi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taining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ul Agbab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ic Sac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hony Nada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hang Kassa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ter Tipp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m Di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-14 Officer Candidate Sl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irman – Nat Sakim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e Chairman – Eric Sac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surer – John Brad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retary – Mike J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Representative – George Flet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76360" y="3045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lution Revising Board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OpenID Foundation Board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870D-9F70-4B1A-99CB-54E690BB0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09480" y="1295280"/>
            <a:ext cx="8077320" cy="51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HEREAS, the OpenID Foundation is transitioning from a 501(c)(3) non-profit charitable organization status to a 501(c)(6) trade organization status, 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HEREAS, providing additional incentives for corporations to join the OpenID Foundation at the Corporate Membership level could result in a more sustainable financial basis for the Foundation, 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HEREAS, it is the interest of the Foundation for the decision-making for the Foundation to be more closely aligned with financial contributions by members of the Foundation, 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HEREAS, it is recognized that individual Board Members have been a significant asset to the OpenID Foundation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 IT RESOLVED, that the bylaws of the OpenID Foundation are to be amended consistent with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new class of board membership is created to give Corporate Members a voice on the board – the class of Corporate Board Members.  A Corporate Board Member will be elected from among the Corporate Members of the Foundation on an annual basi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term “Community Board Member” is replaced by the term “Individual Board Member”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re will be three elected Individual Board Members once the terms of the current elected Individual Board Members expi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terms of the Individual Board Members who are already elected remain unchang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049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 Planning Calenda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as of February, 201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OpenID Foundation Board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DAF0-6232-4091-8F25-E959D7656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1290600"/>
          <a:ext cx="8610480" cy="4948200"/>
        </p:xfrm>
        <a:graphic>
          <a:graphicData uri="http://schemas.openxmlformats.org/drawingml/2006/table">
            <a:tbl>
              <a:tblPr/>
              <a:tblGrid>
                <a:gridCol w="1041120"/>
                <a:gridCol w="1814760"/>
                <a:gridCol w="5754600"/>
              </a:tblGrid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ruary 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0 AM – 1:3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ard Meeting/Conference Call  in San Francisco in conjunction with RSA at Microsoft Off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36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 4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0 AM - 8:00 PM J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ID Workshop in Tokyo in conjunction with Japan Identity and Cloud Summit (JICS 20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ch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no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 Society Hosted OIDF Connect WG in Orlando, F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il 4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:00 – 3:0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ive Committee Conference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:00 – 3:0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ive Committee Conference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0 – Noon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IDF Workshop in Mountain View in conjunction with II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on - 1:3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ard Meeting/Conference Call in Mountain View in conjunction with II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14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and Time T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IDF Workshop in Munich in conjunction with EIC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e 6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:00 – 3:0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ive Committee Conference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28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y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0 AM – 12:0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IDF Workshop in Napa in conjunction with CIS 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y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:00 - 1:3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IDF Board Meeting/Conference Call in Napa in conjunction with CIS 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ust 1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:00 – 3:0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ive Committee Conference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e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:00 – 3:0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ive Committee Conference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:00 – 3:0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ive Committee Conference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 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0 – Noon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IDF Workshop in Mountain View in conjunction with II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on - 1:3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ard Meeting/Conference Call in Mountain View in conjunction with II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:00 – 3:0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ive Committee Conference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:00 – 3:00 PM 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2880" bIns="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ive Committee Conference 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4320">
                      <a:solidFill>
                        <a:srgbClr val="bbbbbb"/>
                      </a:solidFill>
                    </a:lnL>
                    <a:lnR w="4320">
                      <a:solidFill>
                        <a:srgbClr val="bbbbbb"/>
                      </a:solidFill>
                    </a:lnR>
                    <a:lnT w="4320">
                      <a:solidFill>
                        <a:srgbClr val="bbbbbb"/>
                      </a:solidFill>
                    </a:lnT>
                    <a:lnB w="4320">
                      <a:solidFill>
                        <a:srgbClr val="bbbbb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47"/>
          <p:cNvSpPr/>
          <p:nvPr/>
        </p:nvSpPr>
        <p:spPr>
          <a:xfrm>
            <a:off x="7837200" y="144504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44444"/>
                </a:solidFill>
                <a:latin typeface="Arial"/>
                <a:ea typeface="Segoe U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05320" y="304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Dashboar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February 19, 201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Cash Balance                  $294,2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F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$251,67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gle Fund                         $39,6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Fund                        $2,09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Pal Account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$8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y Market                            $2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s Payab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-30 Days         31-60 Days     61-90 Days       &gt;90 Days       TO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$1,248              $0                    $0                     $0                  $1,24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Open Sales                      $50,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Verizo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50 Days                                    $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Accounts Receivable      $13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50 Days                            $50,000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ayP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50 Days                            $80,000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tel, CA Tech) (Google, Verizon directed fund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9000" y="3045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hip Dashboar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YTD as of February 19, 201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emb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ding New Not P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ll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ship cancellations only occur on a quarterly basis; when memberships expire automatically (or if requested by member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new members are in the form of individual members and smaller organizati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1:44:31Z</dcterms:created>
  <dc:creator>Marisa Clay</dc:creator>
  <dc:description/>
  <dc:language>en-US</dc:language>
  <cp:lastModifiedBy>John Ehrig</cp:lastModifiedBy>
  <cp:lastPrinted>2010-01-15T00:46:52Z</cp:lastPrinted>
  <dcterms:modified xsi:type="dcterms:W3CDTF">2013-02-27T21:11:32Z</dcterms:modified>
  <cp:revision>45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20101033</vt:lpwstr>
  </property>
</Properties>
</file>