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5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796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B32C8C-EEFE-4C87-A86C-CB08B1B4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80E519-769A-4675-A9DE-1753E286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to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184C75-B885-4BA9-AF1A-44276CDF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0DC619-2C74-4C0F-95FC-FED2EA6E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2DF5D55-0754-476B-BDE1-DD6344CD3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A06E555-7C8A-4145-9FF9-48C20282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3658C4-AFD6-467C-AC23-C09BF864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612E400-ACB2-4730-8CA0-66A94023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78CDCA0-211B-4B68-B1F0-2A385620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24D2BA-9EA0-4FFB-852A-C809C98B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8EE2DB2-880A-4991-915F-CB09E4C4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33D81C-E065-48E1-9EC8-CB9C42473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7A77E9C-B0AA-4F8D-9B27-68B77DF7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FF7-9892-447F-B976-97BED4BF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95E-45C0-49CC-94A8-F971081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2FB-EBFE-4F20-8315-F7465E5D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A71-DF86-40E0-8E55-D264C835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85748-AF9D-4C63-B4C2-EB0381143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36383-2DF3-4DF0-A36D-93007BAA8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8E5C8-ED13-4661-A596-E6597AF90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5216C-466F-4121-9407-CC58412142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29BDD-D736-42D4-9341-2E2B367170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04960" y="304560"/>
            <a:ext cx="518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DE2E-CA3C-4FA8-85A8-23F6A32B24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48A6-DA0A-4F4C-AEF3-D2A19A34B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49D8-E53F-4B3B-AB03-A84764F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7A632-B591-412E-951A-1A2F3AC669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525AE-6786-4C8A-A98D-5F598F2444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10128-541F-459A-B162-81DFDB4847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CC51-0164-4A1A-BB84-CA78BF01D6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D751-3470-4DBF-A5E6-6330069D4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5F7-1508-4B97-81B0-7B551DB4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A92-D4B4-41B7-837D-2A7AF8A4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AC5-AD1A-44CD-ABC2-35913C2E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4960" y="304560"/>
            <a:ext cx="518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F5F-A453-4606-B0DF-FBABB924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152-0B57-4579-B3E5-4688EF6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F72-D064-4D22-A4FB-57FC673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AC4-2DAE-45C2-94E2-F42118F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3572-B407-4A08-8E03-52137649B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openid-logo-wordmark.png"/>
          <p:cNvPicPr/>
          <p:nvPr/>
        </p:nvPicPr>
        <p:blipFill>
          <a:blip r:embed="rId2"/>
          <a:stretch/>
        </p:blipFill>
        <p:spPr>
          <a:xfrm>
            <a:off x="457200" y="304920"/>
            <a:ext cx="30751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openid-logo-wordmark.png"/>
          <p:cNvPicPr/>
          <p:nvPr/>
        </p:nvPicPr>
        <p:blipFill>
          <a:blip r:embed="rId2"/>
          <a:stretch/>
        </p:blipFill>
        <p:spPr>
          <a:xfrm>
            <a:off x="457200" y="304920"/>
            <a:ext cx="307512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9C1C-97F3-42AA-955E-0F743FF75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3.gotomeeting.com/join/549134998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corporate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s://www.paypal.com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symantec.com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22.verizon.com/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microsoft.com/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://www.pingidentity.com/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openid.yahoo.com/" TargetMode="External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a.com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daon.com/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dtechllc.com/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telekom.com/home/" TargetMode="External"/><Relationship Id="rId8" Type="http://schemas.openxmlformats.org/officeDocument/2006/relationships/image" Target="../media/image12.png"/><Relationship Id="rId9" Type="http://schemas.openxmlformats.org/officeDocument/2006/relationships/hyperlink" Target="http://www.eidbadges.com/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http://www.gigya.com/" TargetMode="External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D Foundation Board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uary 27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:00 AM – 11:30 AM 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35 Market Street, Suite 7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n Francisco, 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 Room:  SF/Sausalito-71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773) 945-10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ccess Code: 549-134-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3.gotomeeting.com/join/549134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57C-514D-43A3-A18D-C757FA797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ing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6" descr="http://openidentityexchange.org/sites/default/files/goog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240" y="167652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http://openidentityexchange.org/sites/default/files/paypal_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42900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openidentityexchange.org/sites/default/files/symantec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60680" y="342900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http://openidentityexchange.org/sites/default/files/verizon_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3120" y="327672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Microsof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19480" y="179064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ng Identit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72200" y="18288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Yahoo!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800600"/>
            <a:ext cx="21906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porate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0" descr="CA Technolog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85960" y="14479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Da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43360" y="1371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2" descr="dte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53400" y="14479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Deutsche Teleko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5760" y="23623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4" descr="eIDBadg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62280" y="257184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5" descr="Gigy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43360" y="2514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Gluu"/>
          <p:cNvPicPr/>
          <p:nvPr/>
        </p:nvPicPr>
        <p:blipFill>
          <a:blip r:embed="rId13"/>
          <a:stretch/>
        </p:blipFill>
        <p:spPr>
          <a:xfrm>
            <a:off x="7029360" y="2514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ID Foundry"/>
          <p:cNvPicPr/>
          <p:nvPr/>
        </p:nvPicPr>
        <p:blipFill>
          <a:blip r:embed="rId14"/>
          <a:stretch/>
        </p:blipFill>
        <p:spPr>
          <a:xfrm>
            <a:off x="533520" y="3352680"/>
            <a:ext cx="1428480" cy="85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9" descr="JanRain, Inc."/>
          <p:cNvPicPr/>
          <p:nvPr/>
        </p:nvPicPr>
        <p:blipFill>
          <a:blip r:embed="rId15"/>
          <a:stretch/>
        </p:blipFill>
        <p:spPr>
          <a:xfrm>
            <a:off x="2765520" y="3352680"/>
            <a:ext cx="142848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0" descr="Nomura Research Institute"/>
          <p:cNvPicPr/>
          <p:nvPr/>
        </p:nvPicPr>
        <p:blipFill>
          <a:blip r:embed="rId16"/>
          <a:stretch/>
        </p:blipFill>
        <p:spPr>
          <a:xfrm>
            <a:off x="4743360" y="33526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1" descr="http://openid.net/wordpress-content/uploads/2012/09/logo_s_otp.png"/>
          <p:cNvPicPr/>
          <p:nvPr/>
        </p:nvPicPr>
        <p:blipFill>
          <a:blip r:embed="rId17"/>
          <a:stretch/>
        </p:blipFill>
        <p:spPr>
          <a:xfrm>
            <a:off x="6915240" y="33526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http://openid.net/wordpress-content/uploads/2013/02/logo_s_otp2.png"/>
          <p:cNvPicPr/>
          <p:nvPr/>
        </p:nvPicPr>
        <p:blipFill>
          <a:blip r:embed="rId18"/>
          <a:stretch/>
        </p:blipFill>
        <p:spPr>
          <a:xfrm>
            <a:off x="457200" y="42670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3" descr="Pacific East"/>
          <p:cNvPicPr/>
          <p:nvPr/>
        </p:nvPicPr>
        <p:blipFill>
          <a:blip r:embed="rId19"/>
          <a:stretch/>
        </p:blipFill>
        <p:spPr>
          <a:xfrm>
            <a:off x="2895480" y="42670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4" descr="Unbound ID"/>
          <p:cNvPicPr/>
          <p:nvPr/>
        </p:nvPicPr>
        <p:blipFill>
          <a:blip r:embed="rId20"/>
          <a:stretch/>
        </p:blipFill>
        <p:spPr>
          <a:xfrm>
            <a:off x="4952880" y="43243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5" descr="Salesforce.com"/>
          <p:cNvPicPr/>
          <p:nvPr/>
        </p:nvPicPr>
        <p:blipFill>
          <a:blip r:embed="rId21"/>
          <a:stretch/>
        </p:blipFill>
        <p:spPr>
          <a:xfrm>
            <a:off x="6953400" y="440064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6" descr="Sanda Technologies"/>
          <p:cNvPicPr/>
          <p:nvPr/>
        </p:nvPicPr>
        <p:blipFill>
          <a:blip r:embed="rId22"/>
          <a:stretch/>
        </p:blipFill>
        <p:spPr>
          <a:xfrm>
            <a:off x="476280" y="53341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7" descr="Trulioo"/>
          <p:cNvPicPr/>
          <p:nvPr/>
        </p:nvPicPr>
        <p:blipFill>
          <a:blip r:embed="rId23"/>
          <a:stretch/>
        </p:blipFill>
        <p:spPr>
          <a:xfrm>
            <a:off x="2762280" y="52578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8" descr="trustx"/>
          <p:cNvPicPr/>
          <p:nvPr/>
        </p:nvPicPr>
        <p:blipFill>
          <a:blip r:embed="rId24"/>
          <a:stretch/>
        </p:blipFill>
        <p:spPr>
          <a:xfrm>
            <a:off x="5048280" y="53341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9" descr="Peercraft"/>
          <p:cNvPicPr/>
          <p:nvPr/>
        </p:nvPicPr>
        <p:blipFill>
          <a:blip r:embed="rId25"/>
          <a:stretch/>
        </p:blipFill>
        <p:spPr>
          <a:xfrm>
            <a:off x="7182000" y="53341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0" descr="VMware"/>
          <p:cNvPicPr/>
          <p:nvPr/>
        </p:nvPicPr>
        <p:blipFill>
          <a:blip r:embed="rId26"/>
          <a:stretch/>
        </p:blipFill>
        <p:spPr>
          <a:xfrm>
            <a:off x="3676680" y="5943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BioID"/>
          <p:cNvPicPr/>
          <p:nvPr/>
        </p:nvPicPr>
        <p:blipFill>
          <a:blip r:embed="rId27"/>
          <a:stretch/>
        </p:blipFill>
        <p:spPr>
          <a:xfrm>
            <a:off x="404640" y="1447920"/>
            <a:ext cx="14288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Update Append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Sheet – February 19, 2013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012-2013 Fiscal Ye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Object 1"/>
          <p:cNvGraphicFramePr/>
          <p:nvPr/>
        </p:nvGraphicFramePr>
        <p:xfrm>
          <a:off x="457200" y="1600200"/>
          <a:ext cx="8080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80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TD P&amp;L Statement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pril 2012- March 2013 Fiscal Ye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2133720" y="1523880"/>
          <a:ext cx="4267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4267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D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380880" y="1600200"/>
          <a:ext cx="8363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63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ales Order Detai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1"/>
          <p:cNvGraphicFramePr/>
          <p:nvPr/>
        </p:nvGraphicFramePr>
        <p:xfrm>
          <a:off x="457200" y="1752480"/>
          <a:ext cx="822024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02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Detai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Object 1"/>
          <p:cNvGraphicFramePr/>
          <p:nvPr/>
        </p:nvGraphicFramePr>
        <p:xfrm>
          <a:off x="609480" y="1600200"/>
          <a:ext cx="769644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69644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Desk Inquiries - 6 Month Tr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676520" y="60786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ventures SLA = 48 hour average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80880" y="1276200"/>
          <a:ext cx="38862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76200"/>
                    <a:ext cx="38862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4648320" y="1371600"/>
          <a:ext cx="385596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855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esk Inquiry Categorization and Trend Analysis – Januar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127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838080" y="1676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ets Received:                         57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icket Response Time:  27.41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924"/>
          <p:cNvGraphicFramePr/>
          <p:nvPr/>
        </p:nvGraphicFramePr>
        <p:xfrm>
          <a:off x="1295280" y="3886200"/>
          <a:ext cx="6400800" cy="22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9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64008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ed 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ty Board Election Results:  5 Minu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icer Election:  5 Minu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:  30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, Account Chooser and Backplane WG Updates: 10 Minutes E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ke, Eric and Gr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bership Recruitment Update:  5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FDB3-49CD-4053-91F7-350EC1FA0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539640"/>
            <a:ext cx="81360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gh First Cut FY 13/14 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7659-5467-4506-86A9-8ACB1145DA2F}" type="datetime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f497d"/>
                </a:solidFill>
                <a:latin typeface="Arial"/>
              </a:rPr>
              <a:t>Page </a:t>
            </a:r>
            <a:fld id="{146F0D6A-8D8B-41AD-B8AC-7D99843AFED6}" type="slidenum">
              <a:rPr b="0" lang="de-DE" sz="8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9640" y="1413000"/>
          <a:ext cx="8077320" cy="3495600"/>
        </p:xfrm>
        <a:graphic>
          <a:graphicData uri="http://schemas.openxmlformats.org/drawingml/2006/table">
            <a:tbl>
              <a:tblPr/>
              <a:tblGrid>
                <a:gridCol w="4248360"/>
                <a:gridCol w="1871640"/>
                <a:gridCol w="19573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12/13 YTD actuals/ EOY E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13/14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anag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9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,3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Board Election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63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8 members voted, casting a total of 313 vo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 Sakimura 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radley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ke Jones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Fletcher 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ik Biering 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ael Schwartz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-14 Board of Dir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 Sakim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rad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ke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xel Nenn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 Keeg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Flet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ik Bi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Agba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ic Sa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ony Nad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hang Kass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Tipp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m D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-14 Officer Candidate S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man – Nat Sakim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 Chairman – Eric Sa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surer – John Brad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ary – Mike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Representative – George Flet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 Revising Board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389-126B-4DBF-8A35-1C0322452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09480" y="1295280"/>
            <a:ext cx="807732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the OpenID Foundation is transitioning from a 501(c)(3) non-profit charitable organization status to a 501(c)(6) trade organization status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providing additional incentives for corporations to join the OpenID Foundation at the Corporate Membership level could result in a more sustainable financial basis for the Foundation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it is the interest of the Foundation for the decision-making for the Foundation to be more closely aligned with financial contributions by members of the Foundation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it is recognized that individual Board Members have been a significant asset to the OpenID Foundatio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IT RESOLVED, that the bylaws of the OpenID Foundation are to be amended consistent with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new class of board membership is created to give Corporate Members a voice on the board – the class of Corporate Board Members.  A Corporate Board Member will be elected from among the Corporate Members of the Foundation on an annual bas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term “Community Board Member” is replaced by the term “Individual Board Member”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re will be three elected Individual Board Members once the terms of the current elected Individual Board Members expi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terms of the Individual Board Members who are already elected remain unchang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Planning Calenda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s of February,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4951-FF31-4933-AA25-48DCC6040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290600"/>
          <a:ext cx="8610480" cy="4948200"/>
        </p:xfrm>
        <a:graphic>
          <a:graphicData uri="http://schemas.openxmlformats.org/drawingml/2006/table">
            <a:tbl>
              <a:tblPr/>
              <a:tblGrid>
                <a:gridCol w="1041120"/>
                <a:gridCol w="1814760"/>
                <a:gridCol w="5754600"/>
              </a:tblGrid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M –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Meeting/Conference Call  in San Francisco in conjunction with RSA at Microsoft Off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M - 8:00 PM J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D Workshop in Tokyo in conjunction with Japan Identity and Cloud Summit (JICS 20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ch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n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Society Hosted OIDF Connect WG in Orlando, F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4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– Noon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 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on -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Meeting/Conference Call 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14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and Time 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 in Munich in conjunction with EIC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e 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M – 12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 in Napa in conjunction with CIS 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00 -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Board Meeting/Conference Call in Napa in conjunction with CIS 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1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– Noon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 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on -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Meeting/Conference Call 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7837200" y="14450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44444"/>
                </a:solidFill>
                <a:latin typeface="Arial"/>
                <a:ea typeface="Segoe U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053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Dashboar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February 19,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ash Balance                  $294,2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F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$251,67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Fund                         $39,6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Fund                        $2,0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Pal Accoun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$8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Market                            $2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-30 Days         31-60 Days     61-90 Days       &gt;90 Days       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$1,248              $0                    $0                     $0                  $1,2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pen Sales                      $50,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eriz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50 Days                                    $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ccounts Receivable      $13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50 Days                            $50,000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yP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50 Days                            $80,000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el, CA Tech) (Google, Verizon directed fund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9000" y="304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Dashboar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YTD 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e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ing New Not P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hip cancellations only occur on a quarterly basis; when memberships expire automatically (or if requested by membe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new members are in the form of individual members and smaller organiz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1:44:31Z</dcterms:created>
  <dc:creator>Marisa Clay</dc:creator>
  <dc:description/>
  <dc:language>en-US</dc:language>
  <cp:lastModifiedBy>John Ehrig</cp:lastModifiedBy>
  <cp:lastPrinted>2010-01-15T00:46:52Z</cp:lastPrinted>
  <dcterms:modified xsi:type="dcterms:W3CDTF">2013-02-27T21:11:32Z</dcterms:modified>
  <cp:revision>45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20101033</vt:lpwstr>
  </property>
</Properties>
</file>