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6FBA2-AB14-4309-B9E0-37A9F50ED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3C00-9516-4297-9D02-264F5167C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FE71-2AD1-420B-A057-174D2391D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DB581-02B3-425F-8A57-E11DA3B74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8696-7BED-4660-A8AA-614D603A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CD42-90FE-46CD-9D10-74E61B00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7D98-F0EF-4D47-8078-1C268C4E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BB2C3-B5F3-4047-A471-2AE7A2A3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FE304-B971-4012-B440-BE26E5A88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95281-7DE3-4172-8737-12D88840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E872-1529-4A51-B0C3-E64C95CC0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1A15-8F75-45C3-9737-A6A0038FD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0EE8-1C3C-4590-BF7B-79EC1074EA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from</a:t>
            </a:r>
            <a:br>
              <a:rPr sz="4400"/>
            </a:br>
            <a:r>
              <a:rPr b="0" lang="en-US" sz="4400" spc="-1" strike="noStrike">
                <a:solidFill>
                  <a:srgbClr val="000000"/>
                </a:solidFill>
                <a:latin typeface="Calibri"/>
              </a:rPr>
              <a:t>OpenID Goals and Strate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cember 2, 2010</a:t>
            </a:r>
            <a:endParaRPr b="0" lang="en-US" sz="30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hn Bradley, Mike Jones, Nat Sakimura</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3" name="Picture 1" descr=""/>
          <p:cNvPicPr/>
          <p:nvPr/>
        </p:nvPicPr>
        <p:blipFill>
          <a:blip r:embed="rId1"/>
          <a:stretch/>
        </p:blipFill>
        <p:spPr>
          <a:xfrm>
            <a:off x="3714840" y="5335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Resolution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to record board backing of actions resulting from goals and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ctions require new board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lready authorized by the boa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ts of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Specification 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Coope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Advocacy and Edu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Specification Work</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creating and promoting deployment of solutions enabling the six focus scenarios previously discu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deliverables that will improve working group administration, in consultation with active working group ch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about Cooper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authorizes the executive director to investigate cooperation and collaboration opportunities with other organizations that will advance the OpenID mission.  Furthermore, one specific type of cooperation to be investigated is forming beneficial liaison relationships with these organization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recognizes that not all technologies used by OpenID specifications will be developed by OpenID working groups.  Nonetheless, it is a requirement when OpenID specifications utilize non-OpenID developed technologies, they must have licensing terms making their specifications freely available for use by 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Advocacy and Education</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continue our series of OpenID summits in 2011, including internationally.  We specifically authorize a summit to held in Japan in early 2011 and authorize planning for one or more European summits, in addition to one or more North American summ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will fulfill its OpenID advocacy and education mission through summits, speaking opportunities, and web content.  The board requests that the executive director and marketing committee produce a specific advocacy and education plan by mid-February, 201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09:54Z</dcterms:created>
  <dc:creator>Mike Jones</dc:creator>
  <dc:description/>
  <dc:language>en-US</dc:language>
  <cp:lastModifiedBy>Mike Jones</cp:lastModifiedBy>
  <dcterms:modified xsi:type="dcterms:W3CDTF">2010-11-29T06:24:55Z</dcterms:modified>
  <cp:revision>10</cp:revision>
  <dc:subject/>
  <dc:title>Resolutions from OpenID Goals and Strategy</dc:title>
</cp:coreProperties>
</file>