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79B-BB01-441D-A189-D3669B9A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7CC-068F-4FB1-B56D-EF923CDF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897-CA37-4F56-BE9E-A68E0A2C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045-38A9-44BD-9D4F-19AB5E92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C9B-E07F-49A5-A89E-040C9C04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8C9-5BB8-42F5-9E72-52D49D1F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F5B-F563-4D96-8B07-9A42E668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F36-5AD8-4BDE-982D-DCC508B2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189-E087-4939-A886-1437343F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845-08B0-4628-A499-C51226D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48E-DFB2-4457-8250-D976D77C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991-0DAA-417A-AC96-A3FB84B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63B5-5BF2-4CDB-90E4-33CCDD4096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980D-5055-4917-B6B7-8CF51BA8A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581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on-1:00   Lunch together – Google caf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:00-1:30     Vision, Goals, and Strategy Overview and discussion – Mike J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:30-2:00     Proposed Scenarios and Features and discussion – John Brad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:00-2:30     A second OpenID Vision presentation and discussion – Dick Har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:30-3:00     Break (for side conversations and consensus buil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00-4:00     Open Discussion – Mike facilit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:00-5:00     Consider and vote on resolutions – Mike facilit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eb S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user identifier and optional OP-provided claims to 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number of places you're using your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enID 2.0 already used for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ame as OpenID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imple Social 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basic profil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s for more advanced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security not a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ocial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laims-Based Auth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uthoritative claims to authoriz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laims about the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as employees or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f attorney with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in a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Resource Sha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-to-person delegation of you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person-to-organization del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medical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Multiple Levels of As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using of range of assertion levels from low t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common use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Wanted by gover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Aggregating Claims from Multipl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use of verified claims from multiple authoritativ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 potentially personal data 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always requiring individual user-visible interactions with all claim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till with user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Commercial or government RPs needing sets of verifi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Switch to feature table spread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Goals and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ember 2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hn Bradley, Mike Jones, Nat Sakim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s and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Vision,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, Proposed Focus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cenarios and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Breakdown of Features by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D Protocols and Scenario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ID has potential to make people’s online interactions more seamless, secure, and valu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ations of present designs and implementations holding it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broader applicability, need improvements i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e of deploy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ue provided to users and adop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ild identity solutions people can actually 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sy for both depolyers and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dynamic identity inte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just between pre-configured pa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to keeping the “Open” in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trusted interactions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ross the devices and services you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scenario-appropriate levels of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person-to-person us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, permissioning for calendar sha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 as person-to-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rporate understandable priva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cy by design, rather than as an afterthou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small set of target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focus our technology and UX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 modular designs enabl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all endpoints needn’t support al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se and collaborate where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e where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clean migration paths for existing system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Foundation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llaboration to achieve protocols and scenarios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people’s online interactions more seamless, secure, and valu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and facilitate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chosen target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guard IPR of protocols and trad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undation Focus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ate development of needed protocol and user experience specifications to achieve vi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in OpenID working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 cooperation with other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oser working relationships with related SDOs and or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e OpenID Summ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ing internation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vocacy and Edu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sharing what’s possible now and what we are working to en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amlining and housecleaning.  For instan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signing for IPR contribut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ter working group administration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afeguard I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ocial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-Based Auth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Levels of As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 Aggregation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3:08:03Z</dcterms:created>
  <dc:creator>Mike Jones</dc:creator>
  <dc:description/>
  <dc:language>en-US</dc:language>
  <cp:lastModifiedBy>Mike Jones</cp:lastModifiedBy>
  <dcterms:modified xsi:type="dcterms:W3CDTF">2010-12-01T01:02:13Z</dcterms:modified>
  <cp:revision>28</cp:revision>
  <dc:subject/>
  <dc:title>OpenID Goals and Strategy</dc:title>
</cp:coreProperties>
</file>