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D18-3F10-4C95-B5F5-1780B0B9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24C-D534-4511-9758-3E992E21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AC4-FE0E-49EE-8063-FDA1FA4A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06E-D329-4F0E-92EE-C7302623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AFA-6AAF-44F0-B84B-6CC7CB31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4D7-535B-4509-81FE-B621078B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183-F64B-4C08-9FC1-ABBBB908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61B-C4FB-44E3-A00B-CB5BF69B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22A-602E-403A-98D6-1FF4B502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3A5-ACA5-489B-B46A-FF1D8164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83E-DFF8-4A3B-8EDD-5006629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348-9617-4CB1-A586-AA8749DB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8D4E-C6B3-4E9C-AFE2-D00498BFF3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D3C5-02A9-4FF8-B1E4-ACE258E9F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3581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on-1:00   Lunch together – Google caf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:00-1:30     Vision, Goals, and Strategy Overview and discussion – Mike J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:30-2:00     Proposed Scenarios and Features and discussion – John Brad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:00-2:30     A second OpenID Vision presentation and discussion – Dick Hard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:30-3:00     Break (for side conversations and consensus build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:00-4:00     Open Discussion – Mike facilita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:00-5:00     Consider and vote on resolutions – Mike facilita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3714840" y="5335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eb S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user identifier and optional OP-provided claims to 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number of places you're using your pass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enID 2.0 already used for th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Same as OpenID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Simple Social Networ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basic profil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s for more advanced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security not a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Social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Claims-Based Auth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authoritative claims to authorize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claims about the id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cting as employees or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of attorney with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cting in a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Enterprises an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Resource Sha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-to-person delegation of your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person-to-organization dele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endar 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records sharing with a do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records sharing with a medical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Enterprises and 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Multiple Levels of As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 using of range of assertion levels from low to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common user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Wanted by gover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Aggregating Claims from Multiple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ing use of verified claims from multiple authoritativ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ing potentially personal data 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always requiring individual user-visible interactions with all claim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still with user con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 Market:  Commercial or government RPs needing sets of verified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by Sce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(Switch to feature table spreadshee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ID Goals and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ember 2,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hn Bradley, Mike Jones, Nat Sakimu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3714840" y="5335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ocols and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, Vision,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D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, Proposed Focus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Scenarios and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ed Focus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ed Breakdown of Features by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ID Protocols and Scenarios To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nID has potential to make people’s online interactions more seamless, secure, and valu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mitations of present designs and implementations holding it b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broader applicability, need improvements i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se of deploy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ue provided to users and adop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 and Scenarios 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ild identity solutions people can actually u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sy for both depolyers and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dynamic identity inte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just between pre-configured par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e to keeping the “Open” in Open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trusted interactions on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ross the devices and services you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t scenario-appropriate levels of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able person-to-person usa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instance, permissioning for calendar shar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well as person-to-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corporate understandable priva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cy by design, rather than as an afterthou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cols and Scenarios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small set of target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o focus our technology and UX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 modular designs enabli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all endpoints needn’t support all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use and collaborate where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novate where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 clean migration paths for existing system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ID Foundation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collaboration to achieve protocols and scenarios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people’s online interactions more seamless, secure, and valu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ote and facilitate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chosen target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guard IPR of protocols and trad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Foundation Focus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ilitate development of needed protocol and user experience specifications to achieve vi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in OpenID working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in cooperation with other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oser working relationships with related SDOs and or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tinue OpenID Summi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ing internation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vocacy and Edu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inue sharing what’s possible now and what we are working to en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amlining and housecleaning.  For instanc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-signing for IPR contribution agre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tter working group administration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afeguard I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Focus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S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ocial Net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s-Based Autho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Levels of Assu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s Aggregation from Multiple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3:08:03Z</dcterms:created>
  <dc:creator>Mike Jones</dc:creator>
  <dc:description/>
  <dc:language>en-US</dc:language>
  <cp:lastModifiedBy>Mike Jones</cp:lastModifiedBy>
  <dcterms:modified xsi:type="dcterms:W3CDTF">2010-12-01T01:02:13Z</dcterms:modified>
  <cp:revision>28</cp:revision>
  <dc:subject/>
  <dc:title>OpenID Goals and Strategy</dc:title>
</cp:coreProperties>
</file>