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E501D-F1D3-43A7-8FE7-8018A928B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E004E-F5BE-4AE3-BB27-B6634029A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9AC9A-F1A5-4BBD-A583-08AB5DDF3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ED28B-6C21-4A8B-9865-0B87C5E94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BC391-5DE3-432B-96B6-C62261441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C7F28-E084-4F5A-BDD6-F9E628F19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53D20-845B-4FC5-B9F8-3C67E40F0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A0AD8-CEF9-4751-8D87-D89B6AC45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582C1-B97A-4E1F-9DF5-3AF806118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3097B-25EF-4396-B117-A9E283E2D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01534-E748-41D0-A186-1F07790FD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2FFEA-920B-4F20-B6F1-01E7D3F78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EBD6-E649-4AF1-B813-F76CCE7AD62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lutions from</a:t>
            </a:r>
            <a:br>
              <a:rPr sz="4400"/>
            </a:br>
            <a:r>
              <a:rPr b="0" lang="en-US" sz="4400" spc="-1" strike="noStrike">
                <a:solidFill>
                  <a:srgbClr val="000000"/>
                </a:solidFill>
                <a:latin typeface="Calibri"/>
              </a:rPr>
              <a:t>OpenID Goals and Strateg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cember 2, 2010</a:t>
            </a:r>
            <a:endParaRPr b="0" lang="en-US" sz="3000" spc="-1" strike="noStrike">
              <a:solidFill>
                <a:srgbClr val="000000"/>
              </a:solidFill>
              <a:latin typeface="Calibri"/>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hn Bradley, Mike Jones, Nat Sakimura</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43" name="Picture 1" descr=""/>
          <p:cNvPicPr/>
          <p:nvPr/>
        </p:nvPicPr>
        <p:blipFill>
          <a:blip r:embed="rId1"/>
          <a:stretch/>
        </p:blipFill>
        <p:spPr>
          <a:xfrm>
            <a:off x="3714840" y="53352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ut the Resolutions</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nt to record board backing of actions resulting from goals and strate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l actions require new board resolu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already authorized by the boar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ets of resolu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lutions about Specification Wor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lutions about Cooper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lutions about Advocacy and Educ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solutions about Specification Work</a:t>
            </a:r>
            <a:endParaRPr b="0" lang="en-US" sz="40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undation will prioritize creating and promoting deployment of solutions enabling the six focus scenarios previously discu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undation will prioritize deliverables that will improve working group administration, in consultation with active working group ch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lutions about Cooperation</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board authorizes the executive director to investigate cooperation and collaboration opportunities with other organizations that will advance the OpenID mission.  Furthermore, one specific type of cooperation to be investigated is forming beneficial liaison relationships with these organizations.</a:t>
            </a:r>
            <a:endParaRPr b="0" lang="en-US" sz="2700" spc="-1" strike="noStrike">
              <a:solidFill>
                <a:srgbClr val="000000"/>
              </a:solidFill>
              <a:latin typeface="Calibri"/>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board recognizes that not all technologies used by OpenID specifications will be developed by OpenID working groups.  Nonetheless, it is a requirement when OpenID specifications utilize non-OpenID developed technologies, they must have licensing terms making their specifications freely available for use by al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solutions about Advocacy and Education</a:t>
            </a: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 will continue our series of OpenID summits in 2011, including internationally.  We specifically authorize a summit to held in Japan in early 2011 and authorize planning for one or more European summits, in addition to one or more North American summit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foundation will fulfill its OpenID advocacy and education mission through summits, speaking opportunities, and web content.  The board requests that the executive director and marketing committee produce a specific advocacy and education plan by mid-February, 2011.</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04:09:54Z</dcterms:created>
  <dc:creator>Mike Jones</dc:creator>
  <dc:description/>
  <dc:language>en-US</dc:language>
  <cp:lastModifiedBy>Mike Jones</cp:lastModifiedBy>
  <dcterms:modified xsi:type="dcterms:W3CDTF">2010-11-29T06:24:55Z</dcterms:modified>
  <cp:revision>10</cp:revision>
  <dc:subject/>
  <dc:title>Resolutions from OpenID Goals and Strategy</dc:title>
</cp:coreProperties>
</file>