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0D08-32C3-4172-85DE-CD02510D3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2C34-65A6-4E0C-B5CD-2644637E1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C515-0E08-4196-AD70-45329F7B0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2F1F-55A7-4E33-9928-55228ABE3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00C0-20E9-4D6E-86E8-3AE20C7E6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2A13-87A4-4E64-821C-77C0895A0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7AF7-2685-444C-9E2C-85A8A1A5C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9A55-ECDD-4658-86C5-EB53F14D3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A1CA-BA18-4746-A343-A5F8E868F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7DC3-4940-4764-A8C0-A02074576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D854-CD09-49BF-9A83-566C713E1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2D35-3073-4D5D-8D9C-090F79294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131E8-11A4-4389-B810-6A9571775F1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C787D-873D-4AFD-A4C1-56F7FDEF7E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nID Goals and Strate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cember 2, 201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John Bradley, Mike Jones, Nat Sakimur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3714840" y="533520"/>
            <a:ext cx="161928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. Simple Social Network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cess to basic profile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Is for more advanced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gh security not a requir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rget Market:  Social we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. Claims-Based Autho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ing authoritative claims to authorize ac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d on claims about the ident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ople acting as employees or me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wer of attorney with sco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ople acting in a ro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rget Market:  Enterprises and individu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. Resource Shar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son-to-person delegation of your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so person-to-organization deleg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lendar sha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dical records sharing with a doc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dical records sharing with a medical pract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rget Market:  Enterprises and individu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5. Multiple Levels of Assur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able using of range of assertion levels from low to hig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 a common user experi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rget Market:  Wanted by govern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6. Aggregating Claims from Multiple 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abling use of verified claims from multiple authoritative 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ing potentially personal data sto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out always requiring individual user-visible interactions with all claim 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 still with user cons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rget Market:  Commercial or government RPs needing sets of verified attribu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eatures by Scenar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tailed breakdown (TBD insert John’s table(s) her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eatures by Scenario (TBD full table will be something like thi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57200" y="1600200"/>
          <a:ext cx="7696080" cy="4394160"/>
        </p:xfrm>
        <a:graphic>
          <a:graphicData uri="http://schemas.openxmlformats.org/drawingml/2006/table">
            <a:tbl>
              <a:tblPr/>
              <a:tblGrid>
                <a:gridCol w="5616720"/>
                <a:gridCol w="345960"/>
                <a:gridCol w="345960"/>
                <a:gridCol w="347760"/>
                <a:gridCol w="345960"/>
                <a:gridCol w="347760"/>
                <a:gridCol w="345960"/>
              </a:tblGrid>
              <a:tr h="384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ea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63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 modular so that not every endpoint needs to support every featur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ow for ease of deployment in the simplest low security c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4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as ease of deployment towards simplicity for the R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ow for the option of only the minimal information transiting the browser in the request and response (Artifa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4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ssion Management for the R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pport multiple levels of Assurance for Authentication to Relying Parti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3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nsparency of information disclosur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tocols and Scenari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day, Vision, Strate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enID Found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rpose, Proposed Focus Ar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posed Scenarios and Fea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posed Focus Scenari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tailed Breakdown of Features by Scenar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penID Protocols and Scenarios Toda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penID has potential to make people’s online interactions more seamless, secure, and valuab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imitations of present designs and implementations holding it bac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r broader applicability, need improvements i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sabil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ase of deploy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ur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Value provided to users and adop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ocols and Scenarios Vi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Build identity solutions people can actually u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asy for both depolyers and us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nable dynamic identity interaction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t just between pre-configured par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re to keeping the “Open” in OpenI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nable trusted interactions onlin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cross the devices and services you u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t scenario-appropriate levels of assur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nable person-to-person usag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r instance, permissioning for calendar shar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 well as person-to-servi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corporate understandable privac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ivacy by design, rather than as an afterthough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ocols and Scenarios Strate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small set of target scenari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to focus our technology and UX 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duce modular designs enabling th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 all endpoints needn’t support all feat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use and collaborate where possi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novate where necess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able clean migration paths for existing systems an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nID Foundation Purpo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cilitate collaboration to achieve protocols and scenarios vi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king people’s online interactions more seamless, secure, and valu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mote and facilitate ado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 chosen target scenari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ldwi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feguard IPR of protocols and trademar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posed Foundation Focus Ar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acilitate development of needed protocol and user experience specifications to achieve vis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ithin OpenID working grou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nd in cooperation with other organiz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loser working relationships with related SDOs and org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ontinue OpenID Summit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cluding international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dvocacy and Educ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inue sharing what’s possible now and what we are working to en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treamlining and housecleaning.  For instanc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-signing for IPR contribution agreem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etter working group administration suppor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afeguard IP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posed Focus Scenari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b SS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ple Social Networ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ims-Based Author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ource Sha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ltiple Levels of Assu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ims Aggregation from Multiple 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. Web SS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ing user identifier and optional OP-provided claims to R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duce number of places you're using your passwo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OpenID 2.0 already used for thi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rget Market:  Same as OpenID 2.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8T23:08:03Z</dcterms:created>
  <dc:creator>Mike Jones</dc:creator>
  <dc:description/>
  <dc:language>en-US</dc:language>
  <cp:lastModifiedBy>Mike Jones</cp:lastModifiedBy>
  <dcterms:modified xsi:type="dcterms:W3CDTF">2010-11-29T03:46:42Z</dcterms:modified>
  <cp:revision>26</cp:revision>
  <dc:subject/>
  <dc:title>OpenID Goals and Strategy</dc:title>
</cp:coreProperties>
</file>