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F3F-3675-45B7-AAA2-EC6A0214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9CD-EFEA-47F0-83AD-9AC696AA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B3B-1958-4447-926D-B285E6EA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6A7-D324-4E9C-8650-4741477F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8BC-B713-4029-90CD-BFB58145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B96-4226-4F9C-9071-AA6D39E3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EDF-9745-4592-A811-3AEEFFE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56D-91DC-48D6-93A1-1460EA52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848-E4D4-4179-A069-2A676FB7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AD0-433B-4CF4-BA24-D2C7BF7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460-73CC-4F62-852B-B6D02499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B0F-E453-42B6-A706-09463030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5B1A-A733-47F3-90DC-7E198A400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E2F-E344-4996-9F98-699504D94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ID Goals and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ember 2,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hn Bradley, Mike Jones, Nat Sakimu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3714840" y="5335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Simple Social Networ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basic profil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s for more advanced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security not a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Social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Claims-Based Auth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authoritative claims to authorize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claims about the id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cting as employees or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of attorney with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cting in a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Enterprises an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Resource Sha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-to-person delegation of your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person-to-organization dele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endar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records sharing with a 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records sharing with a medical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Enterprises an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Multiple Levels of As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 using of range of assertion levels from low to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common user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Wanted by gover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Aggregating Claims from Multiple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ing use of verified claims from multiple authoritativ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ing potentially personal data 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always requiring individual user-visible interactions with all claim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still with user con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Commercial or government RPs needing sets of verified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by Sce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ed breakdown (TBD insert John’s table(s) he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by Scenario (TBD full table will be something like th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7696080" cy="4394160"/>
        </p:xfrm>
        <a:graphic>
          <a:graphicData uri="http://schemas.openxmlformats.org/drawingml/2006/table">
            <a:tbl>
              <a:tblPr/>
              <a:tblGrid>
                <a:gridCol w="5616720"/>
                <a:gridCol w="345960"/>
                <a:gridCol w="345960"/>
                <a:gridCol w="347760"/>
                <a:gridCol w="345960"/>
                <a:gridCol w="347760"/>
                <a:gridCol w="345960"/>
              </a:tblGrid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3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modular so that not every endpoint needs to support every feat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w for ease of deployment in the simplest low security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as ease of deployment towards simplicity for the R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w for the option of only the minimal information transiting the browser in the request and response (Artifa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ssion Management for the R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multiple levels of Assurance for Authentication to Relying Par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arency of information disclos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s and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, Vision,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D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, Proposed Focus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Scenarios and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ed Focus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ed Breakdown of Features by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ID Protocols and Scenarios To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nID has potential to make people’s online interactions more seamless, secure, and valu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mitations of present designs and implementations holding it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broader applicability, need improvements i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e of deploy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ue provided to users and adop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 and Scenarios 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ild identity solutions people can actually u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sy for both depolyers and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dynamic identity inte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just between pre-configured par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e to keeping the “Open” in Open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trusted interactions on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ross the devices and services you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scenario-appropriate levels of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person-to-person usa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instance, permissioning for calendar sha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well as person-to-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corporate understandable priva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cy by design, rather than as an afterthou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 and Scenarios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small set of target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o focus our technology and UX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 modular designs enabli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all endpoints needn’t support all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use and collaborate where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novate where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 clean migration paths for existing system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ID Foundation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collaboration to achieve protocols and scenarios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people’s online interactions more seamless, secure, and valu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ote and facilitate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chosen target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guard IPR of protocols and trad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Foundation Focus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ilitate development of needed protocol and user experience specifications to achieve vi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in OpenID working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in cooperation with other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oser working relationships with related SDOs and or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tinue OpenID Summi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ing internation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vocacy and Edu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inue sharing what’s possible now and what we are working to en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amlining and housecleaning.  For instanc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-signing for IPR contribution agre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tter working group administration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afeguard I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Focus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S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ocial Net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s-Based Autho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Levels of As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s Aggregation from Multipl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eb S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user identifier and optional OP-provided claims to 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number of places you're using your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enID 2.0 already used for th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Same as OpenID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3:08:03Z</dcterms:created>
  <dc:creator>Mike Jones</dc:creator>
  <dc:description/>
  <dc:language>en-US</dc:language>
  <cp:lastModifiedBy>Mike Jones</cp:lastModifiedBy>
  <dcterms:modified xsi:type="dcterms:W3CDTF">2010-11-29T03:46:42Z</dcterms:modified>
  <cp:revision>26</cp:revision>
  <dc:subject/>
  <dc:title>OpenID Goals and Strategy</dc:title>
</cp:coreProperties>
</file>