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9CF0E-50CB-4C2D-9194-1A806F5D24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A9FE3-B8E8-42A0-B8D9-86574F354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A9A4E-39F0-4B25-BC32-0289EB414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0FBD9-DCF6-4AD4-AF43-E81BFEF27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A32B3-D8F1-4DA4-AB7A-67C00B1AE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3D44D-1888-496A-921A-D8DD2084F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B8E64-A2A0-4B16-9372-DAA96A959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3AA8C-8859-4C63-A922-661662862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CAE44-EB02-408D-9AF1-B1215E957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D83A1-13C7-41AC-8588-FE6EEBFA0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62FC1-46EC-4FBE-838C-5CB47CA05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B572D-5BF4-4D1E-9E53-4A33CBE05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EF0F-3D64-4800-8B7F-63FBB56EB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75D2-6394-46C1-A61C-4759BBDEC3C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2B216C-B497-4762-9D62-62362F47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183E8C-5F2E-4436-8C07-E92711B0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D1E7F8-5CE4-4A94-A1FB-FEE595C6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EBAB9D-6CD1-4396-8D67-F68FBA0D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7D6FC6-1E7E-4B6B-8134-B25143F0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72FF42-E865-48AD-BE39-50DBE05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7B6352-A204-44CB-B0B2-ED34028C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B2D0DD-7CC3-41AF-9737-9FBA7EB4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A7527C-6C4A-4D89-B2CD-605D1616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118AA-5E09-46C7-ADD2-85D47156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B8A9-4BE1-4B83-B947-2A52C7E02B1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75BBA-8F89-4664-8DC3-5A70CADE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A6354-BE1F-4926-97BB-81BCDA16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F61BE-C2BD-40CB-B011-A58376A0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78807-F9E7-4516-8C8E-183D9A59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923BE-7F3F-4BAC-959D-5B251A33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6495E-EB0D-49E2-AD0E-5F7C2546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E4314-1B68-4025-8830-C1085A08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09A3D-F145-4AB9-A33E-8EC04D12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9940C-4354-4FF2-802C-4BE88062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FCA9C-ABCB-4DCA-8DEC-487269F1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4463-1134-4B92-BDEC-881B8B7668F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1EE36-22C4-4142-A020-31B2F5A4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2CBE5-9338-43FB-A0A9-93D8AAF3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996FD-72FA-4BA3-98E8-73D7A7D3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523CA-79E6-4339-AD5F-7693CEB6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B9D11-B5F5-4512-8136-34169E6C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F6997-C612-435F-9D38-3257ED70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9549D-9C84-4969-B63D-CE650838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18FA1-22BC-441E-B0EA-9B1645C9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FE62A-79BF-41B6-9680-6FCE343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79075-ADFF-4BF9-BC1E-9D2D8C03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52BD58-83BD-48A0-8B59-4ADBBE4F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9B7C8-CC01-411A-99F7-0436636E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26CDB-367D-4BAF-BD3F-406E1C4F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FA3B-CC9B-48E4-B178-CC47A5F56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14962-C548-4EBD-B2E6-4A9889E2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44FC9-1F61-4D33-A30C-A215D306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8D640-4618-400B-B6D4-EEEDCAC5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CB0C6-4300-45AA-900F-B6FC36A0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60FF2-78CA-4752-B6E9-F0BDCE6A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27F0-E117-47E8-9ED7-5D70106E2F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EC44F-56E5-4CF1-B0FF-4163C4BD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A4932-BC2D-4CF8-ADA1-35ED9EEC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6589D-D22D-4601-BD1F-E44D4BAF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E1264-15E2-4D66-9DFE-95260F7E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C660B-7FBC-4674-9CFB-D7DE1A79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0A34E-2F90-4EFB-9946-CA9D2CCC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A2183-6452-4514-8517-D2F07777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7C3B2-7F8E-43D6-9DDC-727EDB9E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3754F-4B9B-444E-A276-7A3F95FD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6600E-47FD-413B-88E2-D9289793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5B28-B93F-46E8-A488-99B8B73389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F5838-10A2-4543-8D74-5710DC8B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3DFAF-D955-4FC8-9547-1BCCFFA2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C48EEA-AB93-4FB1-A848-5B2D2299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E1671-A6B6-4F5B-9337-8AE3A725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A6165-A9BA-40B0-ABAD-994AF333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6AC2A8-04EA-4245-B7F8-24058F73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DB3973-B720-4072-BA7D-7558C97D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297E0A-58CF-4793-B28B-E0F7B42E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DDF8E7-39AE-45BB-94C1-C14DCC3E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C7178-9529-410A-BD67-860C6747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7E54-5AE7-4B08-B969-A926FD48C58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99FBE2-32D7-4948-A1C1-D19C724F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C139DD-A0FE-48DF-A73A-EFF1E0F2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EE1E7F-2A59-4E1A-96BA-E4130A1C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C735A-0A05-4708-A345-F5A4DF54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6F03E6-0D65-4208-8285-76DABF76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0F3D46-3048-4C07-ABF8-5DFBAF15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1882A9-506B-4793-8413-AA1CB911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5279D-B6D8-474F-85FC-2B34DA4D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1E672A-5D61-4171-8361-F55DB842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1B6CB-8716-4086-B05A-E16621B4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615D-ABB0-4154-81EB-DC480B07A3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06B3EA-E74E-4B29-A227-E13AA60C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CC4F02-5AB4-4B42-94B5-1C0FE15A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B52F15-DF8E-4901-A22A-9352D377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A627B6-CF74-4BF5-B2EC-EFA44A69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9D883D-A62A-4078-B242-95820EF0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532DF3-298E-4D8B-8BEB-24654B64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B21289-1951-4D5D-B6A3-F1ADFE5C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2C2247-06E1-4FE0-AB04-6CC5B4C0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5316CC-B6DC-4380-B6AF-B9B3160A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2FDCD6-AFFA-44CC-9022-4052083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FCD9-DA47-43A4-A266-0EF23CF864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9976CE-B4B4-4A35-B804-F7FC83E1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F4E706-835F-4F31-8FA6-E521190E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165FAA-76AC-4389-AA03-D32E5520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12292A-17BC-44CF-AE9A-0A0D21D5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72ED20-6270-4354-851A-485EF3C4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9DDFEA-B64C-444A-8FF8-D6790536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0160E1-147C-432D-BA28-29BD26A8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01049E-2617-4940-957D-87389F2B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496BC0-1EB8-41C4-9459-B0353C4A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F76024-B111-4B79-89C2-3614C4EC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010D-5BF7-4CEC-A6B1-C5E6B01271A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7042CB-0B5A-45DF-BD97-7F58062A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0480E4-0BAC-4132-9065-B6169E2C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D755A8-B607-425D-8EC2-89DE2316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9A31EB-C50F-4105-B41E-1C10A987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228186-3AC9-4E28-B65C-60B13F4C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295EDA-E39A-4928-97C1-933697D5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4A59F0-1819-41F0-8EC6-15765E7E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6D73B2-94D3-4EAA-9B8E-32FD8947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366A48-E2A1-45A0-A222-76E9A9FC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742AC8-85F0-4A30-8B51-AACA45BE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A25B-95FB-4036-9972-DB5881F1595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0F66A2-1A6C-45E1-AE7A-66160067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E645FC-7685-4883-8D6C-AC2F46FF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C9B4B8-4435-4722-A3E2-FF3FBEEC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B22419-8003-4A79-9463-5A39A28E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3280" y="3768840"/>
            <a:ext cx="818352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F9A9C4-C36D-4181-80E4-A8D9EC5A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158076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328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96920" y="3768840"/>
            <a:ext cx="399348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9A041A-15CF-4D16-B4E5-9DC041B6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7024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37200" y="158076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328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37200" y="3768840"/>
            <a:ext cx="2634840" cy="199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CF4247-8FC5-413C-8B24-B688069A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5DEDB7-82E6-4A26-8466-6AF33501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B49A60-C6CA-434E-B0F8-5B8F5480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52549F-20E9-4676-9311-901E8DA9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FFDD0-E938-45CA-82E3-A54FF8127D0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6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9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561B8-6E18-44C9-AE8E-D452DDFF5BB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5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60402-EE29-4A30-9F19-A494345775D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4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56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F564D-E2BB-4074-BDAD-54B6EF24D69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8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03897-26CE-445E-85EE-ED7919378FF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8"/>
          <p:cNvSpPr/>
          <p:nvPr/>
        </p:nvSpPr>
        <p:spPr>
          <a:xfrm>
            <a:off x="304920" y="279360"/>
            <a:ext cx="8532720" cy="61977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9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1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E9766-79D2-4336-B362-B2515F4F9A6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4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1EC14-9D72-4017-997F-F3C8265E09D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ed Rectangle 8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Rounded Rectangle 9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6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38475-5231-4153-A0F3-B81F0A21979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069A8-373D-4732-8493-C8815B3FCA9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0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3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4E6CC-C34C-4BA6-B71D-68540F25C5F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0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B66C8-9505-4646-983A-691DAC05649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8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0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E7E69-8B0C-4865-B351-8A6F00D73E3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3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EFF1A-AA00-49BB-87FD-60E098EC398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ounded Rectangle 8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42D3D-578A-402F-AC3D-97B47AC89E4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6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4A959-CB5E-455B-BFD1-23C29E3AF9D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6" name="Rounded Rectangle 10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9" name="Picture 50" descr="openid-logo-wordmark.png"/>
          <p:cNvPicPr/>
          <p:nvPr/>
        </p:nvPicPr>
        <p:blipFill>
          <a:blip r:embed="rId3"/>
          <a:stretch/>
        </p:blipFill>
        <p:spPr>
          <a:xfrm>
            <a:off x="503280" y="5938920"/>
            <a:ext cx="1457280" cy="582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1" descr="Info Card Logo"/>
          <p:cNvPicPr/>
          <p:nvPr/>
        </p:nvPicPr>
        <p:blipFill>
          <a:blip r:embed="rId4"/>
          <a:stretch/>
        </p:blipFill>
        <p:spPr>
          <a:xfrm>
            <a:off x="6983280" y="6048360"/>
            <a:ext cx="1703520" cy="3650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0650B-42C8-4755-8112-DED938F3DC1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19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26292-AE35-4B4B-A2DA-812E0AF4792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ounded Rectangle 8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Round Single Corner Rectangle 9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52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300"/>
              </a:spcBef>
              <a:spcAft>
                <a:spcPts val="300"/>
              </a:spcAft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300"/>
              </a:spcBef>
              <a:spcAft>
                <a:spcPts val="300"/>
              </a:spcAft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42993-C100-4A18-9797-A02BA2F6711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2"/>
          </p:nvPr>
        </p:nvSpPr>
        <p:spPr>
          <a:xfrm>
            <a:off x="304920" y="6111360"/>
            <a:ext cx="8501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C0534-F427-4DA8-87B6-ADBEECABB9A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4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6.png"/><Relationship Id="rId3" Type="http://schemas.openxmlformats.org/officeDocument/2006/relationships/image" Target="../media/image43.png"/><Relationship Id="rId4" Type="http://schemas.openxmlformats.org/officeDocument/2006/relationships/image" Target="../media/image38.png"/><Relationship Id="rId5" Type="http://schemas.openxmlformats.org/officeDocument/2006/relationships/image" Target="../media/image44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378000" y="1878120"/>
            <a:ext cx="8180280" cy="14810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80880" y="4119120"/>
            <a:ext cx="5943600" cy="2205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766f"/>
                </a:solidFill>
                <a:latin typeface="Verdana"/>
              </a:rPr>
              <a:t>Don Thibeau,</a:t>
            </a:r>
            <a:br>
              <a:rPr sz="1600"/>
            </a:br>
            <a:r>
              <a:rPr b="0" lang="en-US" sz="1600" spc="-1" strike="noStrike">
                <a:solidFill>
                  <a:srgbClr val="79766f"/>
                </a:solidFill>
                <a:latin typeface="Verdana"/>
              </a:rPr>
              <a:t>Executive Director, OpenID Foundation (OIDF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766f"/>
                </a:solidFill>
                <a:latin typeface="Verdana"/>
              </a:rPr>
              <a:t>Drummond Reed,</a:t>
            </a:r>
            <a:br>
              <a:rPr sz="1600"/>
            </a:br>
            <a:r>
              <a:rPr b="0" lang="en-US" sz="1600" spc="-1" strike="noStrike">
                <a:solidFill>
                  <a:srgbClr val="79766f"/>
                </a:solidFill>
                <a:latin typeface="Verdana"/>
              </a:rPr>
              <a:t>Executive Director, Information Card Foundation (IC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50" descr="openid-logo-wordmark.png"/>
          <p:cNvPicPr/>
          <p:nvPr/>
        </p:nvPicPr>
        <p:blipFill>
          <a:blip r:embed="rId2"/>
          <a:stretch/>
        </p:blipFill>
        <p:spPr>
          <a:xfrm>
            <a:off x="6324480" y="3857760"/>
            <a:ext cx="2225880" cy="8888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1" descr="Info Card Logo"/>
          <p:cNvPicPr/>
          <p:nvPr/>
        </p:nvPicPr>
        <p:blipFill>
          <a:blip r:embed="rId3"/>
          <a:stretch/>
        </p:blipFill>
        <p:spPr>
          <a:xfrm>
            <a:off x="6629400" y="5133960"/>
            <a:ext cx="19209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70B6F-5883-474A-8450-FE43B56BCED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llowing slide shows the basic design reflecting the OIF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llustrates the relationships between the four parties connected by OIF legal agre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IF TFP itsel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ditors/assess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ty provi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ying par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6"/>
          <p:cNvSpPr/>
          <p:nvPr/>
        </p:nvSpPr>
        <p:spPr>
          <a:xfrm>
            <a:off x="762120" y="501012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ust framework agree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495360" y="5429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Text Box 28"/>
          <p:cNvSpPr/>
          <p:nvPr/>
        </p:nvSpPr>
        <p:spPr>
          <a:xfrm>
            <a:off x="762120" y="52768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tional direct agree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AutoShape 31"/>
          <p:cNvGrpSpPr/>
          <p:nvPr/>
        </p:nvGrpSpPr>
        <p:grpSpPr>
          <a:xfrm>
            <a:off x="476280" y="5006880"/>
            <a:ext cx="334800" cy="255600"/>
            <a:chOff x="476280" y="5006880"/>
            <a:chExt cx="334800" cy="255600"/>
          </a:xfrm>
        </p:grpSpPr>
        <p:pic>
          <p:nvPicPr>
            <p:cNvPr id="563" name="AutoShape 31" descr=""/>
            <p:cNvPicPr/>
            <p:nvPr/>
          </p:nvPicPr>
          <p:blipFill>
            <a:blip r:embed="rId1"/>
            <a:stretch/>
          </p:blipFill>
          <p:spPr>
            <a:xfrm>
              <a:off x="476280" y="5006880"/>
              <a:ext cx="33480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 rot="5400000">
              <a:off x="591840" y="5014800"/>
              <a:ext cx="1112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3962520" y="4324320"/>
            <a:ext cx="1427040" cy="1427040"/>
            <a:chOff x="3962520" y="4324320"/>
            <a:chExt cx="1427040" cy="1427040"/>
          </a:xfrm>
        </p:grpSpPr>
        <p:pic>
          <p:nvPicPr>
            <p:cNvPr id="566" name="Oval 11" descr=""/>
            <p:cNvPicPr/>
            <p:nvPr/>
          </p:nvPicPr>
          <p:blipFill>
            <a:blip r:embed="rId2"/>
            <a:stretch/>
          </p:blipFill>
          <p:spPr>
            <a:xfrm>
              <a:off x="3962520" y="4324320"/>
              <a:ext cx="142704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195800" y="4557600"/>
              <a:ext cx="9158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8" name="Rectangle 5"/>
          <p:cNvGrpSpPr/>
          <p:nvPr/>
        </p:nvGrpSpPr>
        <p:grpSpPr>
          <a:xfrm>
            <a:off x="652320" y="2117880"/>
            <a:ext cx="1584360" cy="1536480"/>
            <a:chOff x="652320" y="2117880"/>
            <a:chExt cx="1584360" cy="1536480"/>
          </a:xfrm>
        </p:grpSpPr>
        <p:pic>
          <p:nvPicPr>
            <p:cNvPr id="569" name="Rectangle 5" descr=""/>
            <p:cNvPicPr/>
            <p:nvPr/>
          </p:nvPicPr>
          <p:blipFill>
            <a:blip r:embed="rId3"/>
            <a:stretch/>
          </p:blipFill>
          <p:spPr>
            <a:xfrm>
              <a:off x="652320" y="2117880"/>
              <a:ext cx="158436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696960" y="2157480"/>
              <a:ext cx="145260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Identit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vider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(IdPs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1" name="AutoShape 6"/>
          <p:cNvGrpSpPr/>
          <p:nvPr/>
        </p:nvGrpSpPr>
        <p:grpSpPr>
          <a:xfrm>
            <a:off x="6802560" y="2025720"/>
            <a:ext cx="1877760" cy="1549440"/>
            <a:chOff x="6802560" y="2025720"/>
            <a:chExt cx="1877760" cy="1549440"/>
          </a:xfrm>
        </p:grpSpPr>
        <p:pic>
          <p:nvPicPr>
            <p:cNvPr id="572" name="AutoShape 6" descr=""/>
            <p:cNvPicPr/>
            <p:nvPr/>
          </p:nvPicPr>
          <p:blipFill>
            <a:blip r:embed="rId4"/>
            <a:stretch/>
          </p:blipFill>
          <p:spPr>
            <a:xfrm>
              <a:off x="6802560" y="2025720"/>
              <a:ext cx="187776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7280280" y="2778120"/>
              <a:ext cx="871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lying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ar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(RPs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74" name="Picture 4" descr="female user"/>
          <p:cNvPicPr/>
          <p:nvPr/>
        </p:nvPicPr>
        <p:blipFill>
          <a:blip r:embed="rId5"/>
          <a:stretch/>
        </p:blipFill>
        <p:spPr>
          <a:xfrm>
            <a:off x="4334040" y="4468680"/>
            <a:ext cx="658800" cy="990720"/>
          </a:xfrm>
          <a:prstGeom prst="rect">
            <a:avLst/>
          </a:prstGeom>
          <a:ln w="0">
            <a:noFill/>
          </a:ln>
        </p:spPr>
      </p:pic>
      <p:cxnSp>
        <p:nvCxnSpPr>
          <p:cNvPr id="575" name="AutoShape 23"/>
          <p:cNvCxnSpPr>
            <a:endCxn id="569" idx="2"/>
          </p:cNvCxnSpPr>
          <p:nvPr/>
        </p:nvCxnSpPr>
        <p:spPr>
          <a:xfrm rot="10800000">
            <a:off x="1443960" y="3653640"/>
            <a:ext cx="2529720" cy="14486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76" name="AutoShape 24"/>
          <p:cNvCxnSpPr/>
          <p:nvPr/>
        </p:nvCxnSpPr>
        <p:spPr>
          <a:xfrm rot="5400000">
            <a:off x="4534920" y="-1113120"/>
            <a:ext cx="76680" cy="6287400"/>
          </a:xfrm>
          <a:prstGeom prst="curvedConnector5">
            <a:avLst>
              <a:gd name="adj1" fmla="val -1586320"/>
              <a:gd name="adj2" fmla="val 50000"/>
              <a:gd name="adj3" fmla="val -1586320"/>
            </a:avLst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77" name="AutoShape 23"/>
          <p:cNvCxnSpPr/>
          <p:nvPr/>
        </p:nvCxnSpPr>
        <p:spPr>
          <a:xfrm flipV="1">
            <a:off x="5301000" y="3561840"/>
            <a:ext cx="2528280" cy="144864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78" name="Text Box 14"/>
          <p:cNvSpPr/>
          <p:nvPr/>
        </p:nvSpPr>
        <p:spPr>
          <a:xfrm>
            <a:off x="4025880" y="5342040"/>
            <a:ext cx="12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9" name="AutoShape 6"/>
          <p:cNvGrpSpPr/>
          <p:nvPr/>
        </p:nvGrpSpPr>
        <p:grpSpPr>
          <a:xfrm>
            <a:off x="3187800" y="2239920"/>
            <a:ext cx="2968560" cy="1073160"/>
            <a:chOff x="3187800" y="2239920"/>
            <a:chExt cx="2968560" cy="1073160"/>
          </a:xfrm>
        </p:grpSpPr>
        <p:pic>
          <p:nvPicPr>
            <p:cNvPr id="580" name="AutoShape 6" descr=""/>
            <p:cNvPicPr/>
            <p:nvPr/>
          </p:nvPicPr>
          <p:blipFill>
            <a:blip r:embed="rId6"/>
            <a:stretch/>
          </p:blipFill>
          <p:spPr>
            <a:xfrm>
              <a:off x="3187800" y="2239920"/>
              <a:ext cx="29685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3278160" y="2325600"/>
              <a:ext cx="274176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rust Framework Provide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the Open Identity Framework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2" name="AutoShape 8"/>
          <p:cNvGrpSpPr/>
          <p:nvPr/>
        </p:nvGrpSpPr>
        <p:grpSpPr>
          <a:xfrm>
            <a:off x="3279600" y="1203480"/>
            <a:ext cx="2876760" cy="738000"/>
            <a:chOff x="3279600" y="1203480"/>
            <a:chExt cx="2876760" cy="738000"/>
          </a:xfrm>
        </p:grpSpPr>
        <p:pic>
          <p:nvPicPr>
            <p:cNvPr id="583" name="AutoShape 8" descr=""/>
            <p:cNvPicPr/>
            <p:nvPr/>
          </p:nvPicPr>
          <p:blipFill>
            <a:blip r:embed="rId7"/>
            <a:stretch/>
          </p:blipFill>
          <p:spPr>
            <a:xfrm>
              <a:off x="3279600" y="1203480"/>
              <a:ext cx="2876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3352680" y="1273320"/>
              <a:ext cx="2684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uditors/assesso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5" name="AutoShape 10"/>
          <p:cNvGrpSpPr/>
          <p:nvPr/>
        </p:nvGrpSpPr>
        <p:grpSpPr>
          <a:xfrm>
            <a:off x="3206880" y="3598920"/>
            <a:ext cx="3028680" cy="744480"/>
            <a:chOff x="3206880" y="3598920"/>
            <a:chExt cx="3028680" cy="744480"/>
          </a:xfrm>
        </p:grpSpPr>
        <p:pic>
          <p:nvPicPr>
            <p:cNvPr id="586" name="AutoShape 10" descr=""/>
            <p:cNvPicPr/>
            <p:nvPr/>
          </p:nvPicPr>
          <p:blipFill>
            <a:blip r:embed="rId8"/>
            <a:stretch/>
          </p:blipFill>
          <p:spPr>
            <a:xfrm>
              <a:off x="3206880" y="3598920"/>
              <a:ext cx="3028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278160" y="3670200"/>
              <a:ext cx="2835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rust framework authoriti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8" name="AutoShape 19"/>
          <p:cNvGrpSpPr/>
          <p:nvPr/>
        </p:nvGrpSpPr>
        <p:grpSpPr>
          <a:xfrm>
            <a:off x="2206800" y="2587680"/>
            <a:ext cx="865080" cy="420480"/>
            <a:chOff x="2206800" y="2587680"/>
            <a:chExt cx="865080" cy="420480"/>
          </a:xfrm>
        </p:grpSpPr>
        <p:pic>
          <p:nvPicPr>
            <p:cNvPr id="589" name="AutoShape 19" descr=""/>
            <p:cNvPicPr/>
            <p:nvPr/>
          </p:nvPicPr>
          <p:blipFill>
            <a:blip r:embed="rId9"/>
            <a:stretch/>
          </p:blipFill>
          <p:spPr>
            <a:xfrm>
              <a:off x="2206800" y="2587680"/>
              <a:ext cx="8650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5400000">
              <a:off x="2546280" y="2435400"/>
              <a:ext cx="19368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1" name="AutoShape 19"/>
          <p:cNvGrpSpPr/>
          <p:nvPr/>
        </p:nvGrpSpPr>
        <p:grpSpPr>
          <a:xfrm>
            <a:off x="6229440" y="2587680"/>
            <a:ext cx="873000" cy="420480"/>
            <a:chOff x="6229440" y="2587680"/>
            <a:chExt cx="873000" cy="420480"/>
          </a:xfrm>
        </p:grpSpPr>
        <p:pic>
          <p:nvPicPr>
            <p:cNvPr id="592" name="AutoShape 19" descr=""/>
            <p:cNvPicPr/>
            <p:nvPr/>
          </p:nvPicPr>
          <p:blipFill>
            <a:blip r:embed="rId10"/>
            <a:stretch/>
          </p:blipFill>
          <p:spPr>
            <a:xfrm>
              <a:off x="6229440" y="2587680"/>
              <a:ext cx="8730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5400000">
              <a:off x="6570720" y="2435400"/>
              <a:ext cx="19368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4" name="AutoShape 19"/>
          <p:cNvGrpSpPr/>
          <p:nvPr/>
        </p:nvGrpSpPr>
        <p:grpSpPr>
          <a:xfrm>
            <a:off x="4438800" y="1886040"/>
            <a:ext cx="419040" cy="360360"/>
            <a:chOff x="4438800" y="1886040"/>
            <a:chExt cx="419040" cy="360360"/>
          </a:xfrm>
        </p:grpSpPr>
        <p:pic>
          <p:nvPicPr>
            <p:cNvPr id="595" name="AutoShape 19" descr=""/>
            <p:cNvPicPr/>
            <p:nvPr/>
          </p:nvPicPr>
          <p:blipFill>
            <a:blip r:embed="rId11"/>
            <a:stretch/>
          </p:blipFill>
          <p:spPr>
            <a:xfrm>
              <a:off x="4438800" y="1886040"/>
              <a:ext cx="4190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4552920" y="1949400"/>
              <a:ext cx="1936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7" name="AutoShape 19"/>
          <p:cNvGrpSpPr/>
          <p:nvPr/>
        </p:nvGrpSpPr>
        <p:grpSpPr>
          <a:xfrm>
            <a:off x="4438800" y="3257640"/>
            <a:ext cx="419040" cy="360360"/>
            <a:chOff x="4438800" y="3257640"/>
            <a:chExt cx="419040" cy="360360"/>
          </a:xfrm>
        </p:grpSpPr>
        <p:pic>
          <p:nvPicPr>
            <p:cNvPr id="598" name="AutoShape 19" descr=""/>
            <p:cNvPicPr/>
            <p:nvPr/>
          </p:nvPicPr>
          <p:blipFill>
            <a:blip r:embed="rId12"/>
            <a:stretch/>
          </p:blipFill>
          <p:spPr>
            <a:xfrm>
              <a:off x="4438800" y="3257640"/>
              <a:ext cx="4190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552920" y="3321000"/>
              <a:ext cx="1936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71BA0-AB6C-4B6F-98FC-ACD5C8B2752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1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IF design explicitly supports at two levels of interop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cal certification listings drive adoption before the trust layer is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icy certification listings drives adoption where explicit trust is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ertification and third-party certification is supported at both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ical and policy requirements (“profiles”) can be reused at both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Rectangle 5"/>
          <p:cNvGrpSpPr/>
          <p:nvPr/>
        </p:nvGrpSpPr>
        <p:grpSpPr>
          <a:xfrm>
            <a:off x="841320" y="1432080"/>
            <a:ext cx="1584360" cy="1536480"/>
            <a:chOff x="841320" y="1432080"/>
            <a:chExt cx="1584360" cy="1536480"/>
          </a:xfrm>
        </p:grpSpPr>
        <p:pic>
          <p:nvPicPr>
            <p:cNvPr id="604" name="Rectangle 5" descr=""/>
            <p:cNvPicPr/>
            <p:nvPr/>
          </p:nvPicPr>
          <p:blipFill>
            <a:blip r:embed="rId1"/>
            <a:stretch/>
          </p:blipFill>
          <p:spPr>
            <a:xfrm>
              <a:off x="841320" y="1432080"/>
              <a:ext cx="158436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882720" y="1476360"/>
              <a:ext cx="1452600" cy="14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Identit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vider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(IdPs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6" name="AutoShape 6"/>
          <p:cNvGrpSpPr/>
          <p:nvPr/>
        </p:nvGrpSpPr>
        <p:grpSpPr>
          <a:xfrm>
            <a:off x="6802560" y="1347840"/>
            <a:ext cx="1877760" cy="1547640"/>
            <a:chOff x="6802560" y="1347840"/>
            <a:chExt cx="1877760" cy="1547640"/>
          </a:xfrm>
        </p:grpSpPr>
        <p:pic>
          <p:nvPicPr>
            <p:cNvPr id="607" name="AutoShape 6" descr=""/>
            <p:cNvPicPr/>
            <p:nvPr/>
          </p:nvPicPr>
          <p:blipFill>
            <a:blip r:embed="rId2"/>
            <a:stretch/>
          </p:blipFill>
          <p:spPr>
            <a:xfrm>
              <a:off x="6802560" y="1347840"/>
              <a:ext cx="18777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7280280" y="2095560"/>
              <a:ext cx="8715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lying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ar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(RPs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9" name="AutoShape 6"/>
          <p:cNvGrpSpPr/>
          <p:nvPr/>
        </p:nvGrpSpPr>
        <p:grpSpPr>
          <a:xfrm>
            <a:off x="3206880" y="1554120"/>
            <a:ext cx="2962080" cy="3146400"/>
            <a:chOff x="3206880" y="1554120"/>
            <a:chExt cx="2962080" cy="3146400"/>
          </a:xfrm>
        </p:grpSpPr>
        <p:pic>
          <p:nvPicPr>
            <p:cNvPr id="610" name="AutoShape 6" descr=""/>
            <p:cNvPicPr/>
            <p:nvPr/>
          </p:nvPicPr>
          <p:blipFill>
            <a:blip r:embed="rId3"/>
            <a:stretch/>
          </p:blipFill>
          <p:spPr>
            <a:xfrm>
              <a:off x="3206880" y="1554120"/>
              <a:ext cx="2962080" cy="31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3384720" y="1736640"/>
              <a:ext cx="255564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rust Framework Provi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(the Open Identity Framework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2" name="AutoShape 8"/>
          <p:cNvGrpSpPr/>
          <p:nvPr/>
        </p:nvGrpSpPr>
        <p:grpSpPr>
          <a:xfrm>
            <a:off x="3279600" y="517680"/>
            <a:ext cx="2876760" cy="744480"/>
            <a:chOff x="3279600" y="517680"/>
            <a:chExt cx="2876760" cy="744480"/>
          </a:xfrm>
        </p:grpSpPr>
        <p:pic>
          <p:nvPicPr>
            <p:cNvPr id="613" name="AutoShape 8" descr=""/>
            <p:cNvPicPr/>
            <p:nvPr/>
          </p:nvPicPr>
          <p:blipFill>
            <a:blip r:embed="rId4"/>
            <a:stretch/>
          </p:blipFill>
          <p:spPr>
            <a:xfrm>
              <a:off x="3279600" y="517680"/>
              <a:ext cx="28767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3352680" y="592200"/>
              <a:ext cx="2684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uditors/assesso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5" name="AutoShape 10"/>
          <p:cNvGrpSpPr/>
          <p:nvPr/>
        </p:nvGrpSpPr>
        <p:grpSpPr>
          <a:xfrm>
            <a:off x="3206880" y="4943520"/>
            <a:ext cx="3028680" cy="744480"/>
            <a:chOff x="3206880" y="4943520"/>
            <a:chExt cx="3028680" cy="744480"/>
          </a:xfrm>
        </p:grpSpPr>
        <p:pic>
          <p:nvPicPr>
            <p:cNvPr id="616" name="AutoShape 10" descr=""/>
            <p:cNvPicPr/>
            <p:nvPr/>
          </p:nvPicPr>
          <p:blipFill>
            <a:blip r:embed="rId5"/>
            <a:stretch/>
          </p:blipFill>
          <p:spPr>
            <a:xfrm>
              <a:off x="3206880" y="4943520"/>
              <a:ext cx="3028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3278160" y="5018040"/>
              <a:ext cx="2835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rust framework authoriti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8" name="AutoShape 19"/>
          <p:cNvGrpSpPr/>
          <p:nvPr/>
        </p:nvGrpSpPr>
        <p:grpSpPr>
          <a:xfrm>
            <a:off x="2389320" y="1908000"/>
            <a:ext cx="871560" cy="414360"/>
            <a:chOff x="2389320" y="1908000"/>
            <a:chExt cx="871560" cy="414360"/>
          </a:xfrm>
        </p:grpSpPr>
        <p:pic>
          <p:nvPicPr>
            <p:cNvPr id="619" name="AutoShape 19" descr=""/>
            <p:cNvPicPr/>
            <p:nvPr/>
          </p:nvPicPr>
          <p:blipFill>
            <a:blip r:embed="rId6"/>
            <a:stretch/>
          </p:blipFill>
          <p:spPr>
            <a:xfrm>
              <a:off x="2389320" y="1908000"/>
              <a:ext cx="8715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 rot="5400000">
              <a:off x="2730600" y="1753200"/>
              <a:ext cx="1936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1" name="AutoShape 19"/>
          <p:cNvGrpSpPr/>
          <p:nvPr/>
        </p:nvGrpSpPr>
        <p:grpSpPr>
          <a:xfrm>
            <a:off x="6229440" y="1908000"/>
            <a:ext cx="873000" cy="414360"/>
            <a:chOff x="6229440" y="1908000"/>
            <a:chExt cx="873000" cy="414360"/>
          </a:xfrm>
        </p:grpSpPr>
        <p:pic>
          <p:nvPicPr>
            <p:cNvPr id="622" name="AutoShape 19" descr=""/>
            <p:cNvPicPr/>
            <p:nvPr/>
          </p:nvPicPr>
          <p:blipFill>
            <a:blip r:embed="rId7"/>
            <a:stretch/>
          </p:blipFill>
          <p:spPr>
            <a:xfrm>
              <a:off x="6229440" y="1908000"/>
              <a:ext cx="8730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 rot="5400000">
              <a:off x="6569280" y="1753200"/>
              <a:ext cx="1936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4" name="AutoShape 19"/>
          <p:cNvGrpSpPr/>
          <p:nvPr/>
        </p:nvGrpSpPr>
        <p:grpSpPr>
          <a:xfrm>
            <a:off x="4438800" y="1206360"/>
            <a:ext cx="419040" cy="354240"/>
            <a:chOff x="4438800" y="1206360"/>
            <a:chExt cx="419040" cy="354240"/>
          </a:xfrm>
        </p:grpSpPr>
        <p:pic>
          <p:nvPicPr>
            <p:cNvPr id="625" name="AutoShape 19" descr=""/>
            <p:cNvPicPr/>
            <p:nvPr/>
          </p:nvPicPr>
          <p:blipFill>
            <a:blip r:embed="rId8"/>
            <a:stretch/>
          </p:blipFill>
          <p:spPr>
            <a:xfrm>
              <a:off x="4438800" y="1206360"/>
              <a:ext cx="419040" cy="3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4552920" y="1268280"/>
              <a:ext cx="1936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27" name="AutoShape 9"/>
          <p:cNvSpPr/>
          <p:nvPr/>
        </p:nvSpPr>
        <p:spPr>
          <a:xfrm>
            <a:off x="3367080" y="3616200"/>
            <a:ext cx="2590920" cy="914400"/>
          </a:xfrm>
          <a:prstGeom prst="horizontalScroll">
            <a:avLst>
              <a:gd name="adj" fmla="val 12500"/>
            </a:avLst>
          </a:prstGeom>
          <a:solidFill>
            <a:srgbClr val="4a95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chnical Certifica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AutoShape 9"/>
          <p:cNvSpPr/>
          <p:nvPr/>
        </p:nvSpPr>
        <p:spPr>
          <a:xfrm>
            <a:off x="455760" y="3716280"/>
            <a:ext cx="2514600" cy="762120"/>
          </a:xfrm>
          <a:prstGeom prst="ellipse">
            <a:avLst/>
          </a:prstGeom>
          <a:solidFill>
            <a:srgbClr val="4a9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 Interop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9" name="Group 47"/>
          <p:cNvGrpSpPr/>
          <p:nvPr/>
        </p:nvGrpSpPr>
        <p:grpSpPr>
          <a:xfrm>
            <a:off x="1518480" y="2804760"/>
            <a:ext cx="6287760" cy="891000"/>
            <a:chOff x="1518480" y="2804760"/>
            <a:chExt cx="6287760" cy="891000"/>
          </a:xfrm>
        </p:grpSpPr>
        <p:cxnSp>
          <p:nvCxnSpPr>
            <p:cNvPr id="630" name="AutoShape 19"/>
            <p:cNvCxnSpPr/>
            <p:nvPr/>
          </p:nvCxnSpPr>
          <p:spPr>
            <a:xfrm flipH="1" flipV="1" rot="5400000">
              <a:off x="5800680" y="1690560"/>
              <a:ext cx="848160" cy="3162960"/>
            </a:xfrm>
            <a:prstGeom prst="curvedConnector5">
              <a:avLst>
                <a:gd name="adj1" fmla="val 53842"/>
                <a:gd name="adj2" fmla="val 49994"/>
                <a:gd name="adj3" fmla="val 53842"/>
              </a:avLst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31" name="AutoShape 20"/>
            <p:cNvCxnSpPr/>
            <p:nvPr/>
          </p:nvCxnSpPr>
          <p:spPr>
            <a:xfrm flipV="1" rot="16200000">
              <a:off x="2635560" y="1687680"/>
              <a:ext cx="891360" cy="3125160"/>
            </a:xfrm>
            <a:prstGeom prst="curvedConnector5">
              <a:avLst>
                <a:gd name="adj1" fmla="val 53656"/>
                <a:gd name="adj2" fmla="val 50000"/>
                <a:gd name="adj3" fmla="val 53656"/>
              </a:avLst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32" name="Bent Arrow 49"/>
          <p:cNvSpPr/>
          <p:nvPr/>
        </p:nvSpPr>
        <p:spPr>
          <a:xfrm rot="16200000">
            <a:off x="1848240" y="4200840"/>
            <a:ext cx="838440" cy="1496880"/>
          </a:xfrm>
          <a:prstGeom prst="pie">
            <a:avLst/>
          </a:prstGeom>
          <a:solidFill>
            <a:srgbClr val="4a95bc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Right Arrow 50"/>
          <p:cNvSpPr/>
          <p:nvPr/>
        </p:nvSpPr>
        <p:spPr>
          <a:xfrm>
            <a:off x="3016080" y="3933720"/>
            <a:ext cx="351000" cy="371520"/>
          </a:xfrm>
          <a:prstGeom prst="rightArrow">
            <a:avLst>
              <a:gd name="adj1" fmla="val 50000"/>
              <a:gd name="adj2" fmla="val 26551"/>
            </a:avLst>
          </a:prstGeom>
          <a:solidFill>
            <a:srgbClr val="4a95bc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4" name="AutoShape 19"/>
          <p:cNvGrpSpPr/>
          <p:nvPr/>
        </p:nvGrpSpPr>
        <p:grpSpPr>
          <a:xfrm>
            <a:off x="4438800" y="4610160"/>
            <a:ext cx="419040" cy="353880"/>
            <a:chOff x="4438800" y="4610160"/>
            <a:chExt cx="419040" cy="353880"/>
          </a:xfrm>
        </p:grpSpPr>
        <p:pic>
          <p:nvPicPr>
            <p:cNvPr id="635" name="AutoShape 19" descr=""/>
            <p:cNvPicPr/>
            <p:nvPr/>
          </p:nvPicPr>
          <p:blipFill>
            <a:blip r:embed="rId9"/>
            <a:stretch/>
          </p:blipFill>
          <p:spPr>
            <a:xfrm>
              <a:off x="4438800" y="4610160"/>
              <a:ext cx="41904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552920" y="4671720"/>
              <a:ext cx="1936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Rectangle 5"/>
          <p:cNvGrpSpPr/>
          <p:nvPr/>
        </p:nvGrpSpPr>
        <p:grpSpPr>
          <a:xfrm>
            <a:off x="841320" y="1432080"/>
            <a:ext cx="1584360" cy="1536480"/>
            <a:chOff x="841320" y="1432080"/>
            <a:chExt cx="1584360" cy="1536480"/>
          </a:xfrm>
        </p:grpSpPr>
        <p:pic>
          <p:nvPicPr>
            <p:cNvPr id="638" name="Rectangle 5" descr=""/>
            <p:cNvPicPr/>
            <p:nvPr/>
          </p:nvPicPr>
          <p:blipFill>
            <a:blip r:embed="rId1"/>
            <a:stretch/>
          </p:blipFill>
          <p:spPr>
            <a:xfrm>
              <a:off x="841320" y="1432080"/>
              <a:ext cx="158436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882720" y="1476360"/>
              <a:ext cx="1452600" cy="14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Identit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vider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(IdPs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0" name="AutoShape 6"/>
          <p:cNvGrpSpPr/>
          <p:nvPr/>
        </p:nvGrpSpPr>
        <p:grpSpPr>
          <a:xfrm>
            <a:off x="6802560" y="1347840"/>
            <a:ext cx="1877760" cy="1547640"/>
            <a:chOff x="6802560" y="1347840"/>
            <a:chExt cx="1877760" cy="1547640"/>
          </a:xfrm>
        </p:grpSpPr>
        <p:pic>
          <p:nvPicPr>
            <p:cNvPr id="641" name="AutoShape 6" descr=""/>
            <p:cNvPicPr/>
            <p:nvPr/>
          </p:nvPicPr>
          <p:blipFill>
            <a:blip r:embed="rId2"/>
            <a:stretch/>
          </p:blipFill>
          <p:spPr>
            <a:xfrm>
              <a:off x="6802560" y="1347840"/>
              <a:ext cx="18777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280280" y="2095560"/>
              <a:ext cx="8715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lying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ar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(RPs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3" name="AutoShape 6"/>
          <p:cNvGrpSpPr/>
          <p:nvPr/>
        </p:nvGrpSpPr>
        <p:grpSpPr>
          <a:xfrm>
            <a:off x="3206880" y="1554120"/>
            <a:ext cx="2962080" cy="3503520"/>
            <a:chOff x="3206880" y="1554120"/>
            <a:chExt cx="2962080" cy="3503520"/>
          </a:xfrm>
        </p:grpSpPr>
        <p:pic>
          <p:nvPicPr>
            <p:cNvPr id="644" name="AutoShape 6" descr=""/>
            <p:cNvPicPr/>
            <p:nvPr/>
          </p:nvPicPr>
          <p:blipFill>
            <a:blip r:embed="rId3"/>
            <a:stretch/>
          </p:blipFill>
          <p:spPr>
            <a:xfrm>
              <a:off x="3206880" y="1554120"/>
              <a:ext cx="2962080" cy="35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384720" y="1732320"/>
              <a:ext cx="2555640" cy="31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rust Framework Provi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(the Open Identity Framework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6" name="AutoShape 8"/>
          <p:cNvGrpSpPr/>
          <p:nvPr/>
        </p:nvGrpSpPr>
        <p:grpSpPr>
          <a:xfrm>
            <a:off x="3279600" y="517680"/>
            <a:ext cx="2876760" cy="744480"/>
            <a:chOff x="3279600" y="517680"/>
            <a:chExt cx="2876760" cy="744480"/>
          </a:xfrm>
        </p:grpSpPr>
        <p:pic>
          <p:nvPicPr>
            <p:cNvPr id="647" name="AutoShape 8" descr=""/>
            <p:cNvPicPr/>
            <p:nvPr/>
          </p:nvPicPr>
          <p:blipFill>
            <a:blip r:embed="rId4"/>
            <a:stretch/>
          </p:blipFill>
          <p:spPr>
            <a:xfrm>
              <a:off x="3279600" y="517680"/>
              <a:ext cx="28767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352680" y="592200"/>
              <a:ext cx="2684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uditors/assesso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9" name="AutoShape 10"/>
          <p:cNvGrpSpPr/>
          <p:nvPr/>
        </p:nvGrpSpPr>
        <p:grpSpPr>
          <a:xfrm>
            <a:off x="3206880" y="5194440"/>
            <a:ext cx="3028680" cy="742680"/>
            <a:chOff x="3206880" y="5194440"/>
            <a:chExt cx="3028680" cy="742680"/>
          </a:xfrm>
        </p:grpSpPr>
        <p:pic>
          <p:nvPicPr>
            <p:cNvPr id="650" name="AutoShape 10" descr=""/>
            <p:cNvPicPr/>
            <p:nvPr/>
          </p:nvPicPr>
          <p:blipFill>
            <a:blip r:embed="rId5"/>
            <a:stretch/>
          </p:blipFill>
          <p:spPr>
            <a:xfrm>
              <a:off x="3206880" y="5194440"/>
              <a:ext cx="302868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3278160" y="5265720"/>
              <a:ext cx="2835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rust framework authoriti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2" name="AutoShape 19"/>
          <p:cNvGrpSpPr/>
          <p:nvPr/>
        </p:nvGrpSpPr>
        <p:grpSpPr>
          <a:xfrm>
            <a:off x="2389320" y="1908000"/>
            <a:ext cx="871560" cy="414360"/>
            <a:chOff x="2389320" y="1908000"/>
            <a:chExt cx="871560" cy="414360"/>
          </a:xfrm>
        </p:grpSpPr>
        <p:pic>
          <p:nvPicPr>
            <p:cNvPr id="653" name="AutoShape 19" descr=""/>
            <p:cNvPicPr/>
            <p:nvPr/>
          </p:nvPicPr>
          <p:blipFill>
            <a:blip r:embed="rId6"/>
            <a:stretch/>
          </p:blipFill>
          <p:spPr>
            <a:xfrm>
              <a:off x="2389320" y="1908000"/>
              <a:ext cx="8715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 rot="5400000">
              <a:off x="2730600" y="1753200"/>
              <a:ext cx="1936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5" name="AutoShape 19"/>
          <p:cNvGrpSpPr/>
          <p:nvPr/>
        </p:nvGrpSpPr>
        <p:grpSpPr>
          <a:xfrm>
            <a:off x="6229440" y="1908000"/>
            <a:ext cx="873000" cy="414360"/>
            <a:chOff x="6229440" y="1908000"/>
            <a:chExt cx="873000" cy="414360"/>
          </a:xfrm>
        </p:grpSpPr>
        <p:pic>
          <p:nvPicPr>
            <p:cNvPr id="656" name="AutoShape 19" descr=""/>
            <p:cNvPicPr/>
            <p:nvPr/>
          </p:nvPicPr>
          <p:blipFill>
            <a:blip r:embed="rId7"/>
            <a:stretch/>
          </p:blipFill>
          <p:spPr>
            <a:xfrm>
              <a:off x="6229440" y="1908000"/>
              <a:ext cx="8730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 rot="5400000">
              <a:off x="6569280" y="1753200"/>
              <a:ext cx="1936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8" name="AutoShape 19"/>
          <p:cNvGrpSpPr/>
          <p:nvPr/>
        </p:nvGrpSpPr>
        <p:grpSpPr>
          <a:xfrm>
            <a:off x="4438800" y="1206360"/>
            <a:ext cx="419040" cy="354240"/>
            <a:chOff x="4438800" y="1206360"/>
            <a:chExt cx="419040" cy="354240"/>
          </a:xfrm>
        </p:grpSpPr>
        <p:pic>
          <p:nvPicPr>
            <p:cNvPr id="659" name="AutoShape 19" descr=""/>
            <p:cNvPicPr/>
            <p:nvPr/>
          </p:nvPicPr>
          <p:blipFill>
            <a:blip r:embed="rId8"/>
            <a:stretch/>
          </p:blipFill>
          <p:spPr>
            <a:xfrm>
              <a:off x="4438800" y="1206360"/>
              <a:ext cx="419040" cy="3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4552920" y="1268280"/>
              <a:ext cx="1936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1" name="AutoShape 9"/>
          <p:cNvSpPr/>
          <p:nvPr/>
        </p:nvSpPr>
        <p:spPr>
          <a:xfrm>
            <a:off x="3367080" y="4006800"/>
            <a:ext cx="2590920" cy="914400"/>
          </a:xfrm>
          <a:prstGeom prst="horizontalScroll">
            <a:avLst>
              <a:gd name="adj" fmla="val 12500"/>
            </a:avLst>
          </a:prstGeom>
          <a:solidFill>
            <a:srgbClr val="4a95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chnical Certifica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2" name="Group 11"/>
          <p:cNvGrpSpPr/>
          <p:nvPr/>
        </p:nvGrpSpPr>
        <p:grpSpPr>
          <a:xfrm>
            <a:off x="1518480" y="2804760"/>
            <a:ext cx="6287760" cy="525960"/>
            <a:chOff x="1518480" y="2804760"/>
            <a:chExt cx="6287760" cy="525960"/>
          </a:xfrm>
        </p:grpSpPr>
        <p:cxnSp>
          <p:nvCxnSpPr>
            <p:cNvPr id="663" name="AutoShape 19"/>
            <p:cNvCxnSpPr/>
            <p:nvPr/>
          </p:nvCxnSpPr>
          <p:spPr>
            <a:xfrm flipH="1" flipV="1" rot="5400000">
              <a:off x="5974560" y="1499040"/>
              <a:ext cx="500760" cy="3162960"/>
            </a:xfrm>
            <a:prstGeom prst="curvedConnector5">
              <a:avLst>
                <a:gd name="adj1" fmla="val 53812"/>
                <a:gd name="adj2" fmla="val 49994"/>
                <a:gd name="adj3" fmla="val 53812"/>
              </a:avLst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64" name="AutoShape 20"/>
            <p:cNvCxnSpPr/>
            <p:nvPr/>
          </p:nvCxnSpPr>
          <p:spPr>
            <a:xfrm flipV="1" rot="16200000">
              <a:off x="2818080" y="1505160"/>
              <a:ext cx="526320" cy="3125160"/>
            </a:xfrm>
            <a:prstGeom prst="curvedConnector5">
              <a:avLst>
                <a:gd name="adj1" fmla="val 53593"/>
                <a:gd name="adj2" fmla="val 50000"/>
                <a:gd name="adj3" fmla="val 53593"/>
              </a:avLst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65" name="Right Arrow 15"/>
          <p:cNvSpPr/>
          <p:nvPr/>
        </p:nvSpPr>
        <p:spPr>
          <a:xfrm>
            <a:off x="3019320" y="3532320"/>
            <a:ext cx="351000" cy="392040"/>
          </a:xfrm>
          <a:prstGeom prst="rightArrow">
            <a:avLst>
              <a:gd name="adj1" fmla="val 50000"/>
              <a:gd name="adj2" fmla="val 26551"/>
            </a:avLst>
          </a:prstGeom>
          <a:solidFill>
            <a:srgbClr val="279d9a">
              <a:alpha val="78000"/>
            </a:srgbClr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AutoShape 9"/>
          <p:cNvSpPr/>
          <p:nvPr/>
        </p:nvSpPr>
        <p:spPr>
          <a:xfrm>
            <a:off x="3367080" y="3205080"/>
            <a:ext cx="2590920" cy="914400"/>
          </a:xfrm>
          <a:prstGeom prst="horizontalScroll">
            <a:avLst>
              <a:gd name="adj" fmla="val 12500"/>
            </a:avLst>
          </a:prstGeom>
          <a:solidFill>
            <a:srgbClr val="279d9a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licy Certifica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AutoShape 9"/>
          <p:cNvSpPr/>
          <p:nvPr/>
        </p:nvSpPr>
        <p:spPr>
          <a:xfrm>
            <a:off x="501480" y="3311640"/>
            <a:ext cx="2514600" cy="761760"/>
          </a:xfrm>
          <a:prstGeom prst="ellipse">
            <a:avLst/>
          </a:prstGeom>
          <a:solidFill>
            <a:srgbClr val="279d9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licy Interop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Bent Arrow 18"/>
          <p:cNvSpPr/>
          <p:nvPr/>
        </p:nvSpPr>
        <p:spPr>
          <a:xfrm rot="16200000">
            <a:off x="1434240" y="4011840"/>
            <a:ext cx="1555560" cy="1795680"/>
          </a:xfrm>
          <a:prstGeom prst="pie">
            <a:avLst/>
          </a:prstGeom>
          <a:solidFill>
            <a:srgbClr val="279d9a">
              <a:alpha val="78000"/>
            </a:srgbClr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9" name="AutoShape 19"/>
          <p:cNvGrpSpPr/>
          <p:nvPr/>
        </p:nvGrpSpPr>
        <p:grpSpPr>
          <a:xfrm>
            <a:off x="4438800" y="4957920"/>
            <a:ext cx="419040" cy="291960"/>
            <a:chOff x="4438800" y="4957920"/>
            <a:chExt cx="419040" cy="291960"/>
          </a:xfrm>
        </p:grpSpPr>
        <p:pic>
          <p:nvPicPr>
            <p:cNvPr id="670" name="AutoShape 19" descr=""/>
            <p:cNvPicPr/>
            <p:nvPr/>
          </p:nvPicPr>
          <p:blipFill>
            <a:blip r:embed="rId9"/>
            <a:stretch/>
          </p:blipFill>
          <p:spPr>
            <a:xfrm>
              <a:off x="4438800" y="4957920"/>
              <a:ext cx="41904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4552920" y="5008680"/>
              <a:ext cx="19368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ness/Transpar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dibility/Accoun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F9F2B-8B37-4752-8A41-A009BDD5F41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 txBox="1"/>
          <p:nvPr/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IF makes it easy for anyone of any size to ensure technical or policy interop with their choice of pro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minates the n-squared problem of multi-lateral interop testing or trust agre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ickly become unwieldy for even a small number of IdPs and R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s the market for every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network effect for trus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F0DC1-4789-4890-83F7-DA67CBD00DC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7D016-9561-41C1-BA63-E9A2873F7A9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9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ly implemented, the OITF provides an open, transparent process for trusted identity trans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within and between comm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s protect participants from collusion or anti-trust 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cipates cross-border data protection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4BB41-5317-4E76-A135-DA51C7DD0C5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2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articipant (policy authority, IdP, RP, assessor/auditor) reinforces the credibility of the entir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tual accountability of all particip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hanced by government partici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’ts serve as the initial “trust anchor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1DF2C-4C20-4BCA-97F5-36D98A2332E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5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interoperability of Internet identity across websi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consistent ceremony leads to lower login or transaction abandonment at R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ent trust mark raises user confid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A235D-8195-47FC-976A-12E47381D95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pen Identity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he OIF will drive ado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E9C02-ED37-4DF1-85FE-8A4F2C5E3AD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8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 effici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legal, design, and operations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overhead for assessors/auditors, IdPs, and RPs who need cert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effici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 entity for negotiation of MOAs with policy author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ive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+1=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3C4E2-01B9-4CDA-9036-5E3479566D0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1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ase contact either foundation with questions or com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don@oidf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660066"/>
                </a:solidFill>
                <a:latin typeface="Verdana"/>
              </a:rPr>
              <a:t>director@informationcard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us know if your organization is intere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28979-44EA-4938-A1D7-36B440DCE08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4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309160" cy="10605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are clo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a, MasterCard, AMEX credit card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one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M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re o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litical, social, religious 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re explicit (legal agree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re implicit (social contrac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EA67F-2ECD-4E93-8560-6FBCED3BF01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7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pril, the U.S. government asked the OIDF and ICF to create a trust framework for OpenID and Information C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would enable U.S. government websites to begin accepting OpenID and Information Card credent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SA ICAM relying party requireme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(not just US citize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icit (legal documentation of certification to NIST levels of assu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et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1BB18-3C2B-48AC-BC54-C0760E394CC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the first set of deliverables at IDmanagement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ty Scheme Adoption Process (ISA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ust Framework Provider Adoption Process (TFPA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open identity scheme profiles completed under the ISAP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5DD6E-D484-4605-8B4E-8D21ED96679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ID LOA 1 profile is now implemented across tens of millions of OpenID accou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/pilot infrastructure bui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IdP implementations te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 customer (National Institute of Health) with test 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I Information Cards 1.0 profile covers LOA 1, 2, and non-PKI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C410D-EFF0-4C5E-9D31-4A5526CCCFD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6" name="Oval 11"/>
          <p:cNvGrpSpPr/>
          <p:nvPr/>
        </p:nvGrpSpPr>
        <p:grpSpPr>
          <a:xfrm>
            <a:off x="3786120" y="4591080"/>
            <a:ext cx="1425600" cy="1425600"/>
            <a:chOff x="3786120" y="4591080"/>
            <a:chExt cx="1425600" cy="1425600"/>
          </a:xfrm>
        </p:grpSpPr>
        <p:pic>
          <p:nvPicPr>
            <p:cNvPr id="527" name="Oval 11" descr=""/>
            <p:cNvPicPr/>
            <p:nvPr/>
          </p:nvPicPr>
          <p:blipFill>
            <a:blip r:embed="rId1"/>
            <a:stretch/>
          </p:blipFill>
          <p:spPr>
            <a:xfrm>
              <a:off x="3786120" y="4591080"/>
              <a:ext cx="14256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4016520" y="4819680"/>
              <a:ext cx="915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29" name="Rectangle 2" descr=""/>
          <p:cNvPicPr/>
          <p:nvPr/>
        </p:nvPicPr>
        <p:blipFill>
          <a:blip r:embed="rId2"/>
          <a:stretch/>
        </p:blipFill>
        <p:spPr>
          <a:xfrm>
            <a:off x="500040" y="54288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best implement the pro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best implement the trus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Picture 4" descr="female user"/>
          <p:cNvPicPr/>
          <p:nvPr/>
        </p:nvPicPr>
        <p:blipFill>
          <a:blip r:embed="rId3"/>
          <a:stretch/>
        </p:blipFill>
        <p:spPr>
          <a:xfrm>
            <a:off x="4159080" y="4778280"/>
            <a:ext cx="659160" cy="990720"/>
          </a:xfrm>
          <a:prstGeom prst="rect">
            <a:avLst/>
          </a:prstGeom>
          <a:ln w="0">
            <a:noFill/>
          </a:ln>
        </p:spPr>
      </p:pic>
      <p:grpSp>
        <p:nvGrpSpPr>
          <p:cNvPr id="532" name="Rectangle 5"/>
          <p:cNvGrpSpPr/>
          <p:nvPr/>
        </p:nvGrpSpPr>
        <p:grpSpPr>
          <a:xfrm>
            <a:off x="1103400" y="2932200"/>
            <a:ext cx="2036520" cy="1859040"/>
            <a:chOff x="1103400" y="2932200"/>
            <a:chExt cx="2036520" cy="1859040"/>
          </a:xfrm>
        </p:grpSpPr>
        <p:pic>
          <p:nvPicPr>
            <p:cNvPr id="533" name="Rectangle 5" descr=""/>
            <p:cNvPicPr/>
            <p:nvPr/>
          </p:nvPicPr>
          <p:blipFill>
            <a:blip r:embed="rId4"/>
            <a:stretch/>
          </p:blipFill>
          <p:spPr>
            <a:xfrm>
              <a:off x="1103400" y="2932200"/>
              <a:ext cx="20365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43000" y="2971800"/>
              <a:ext cx="190512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Identity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Provider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(IdP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5" name="AutoShape 6"/>
          <p:cNvGrpSpPr/>
          <p:nvPr/>
        </p:nvGrpSpPr>
        <p:grpSpPr>
          <a:xfrm>
            <a:off x="5840280" y="2852640"/>
            <a:ext cx="2419560" cy="1878120"/>
            <a:chOff x="5840280" y="2852640"/>
            <a:chExt cx="2419560" cy="1878120"/>
          </a:xfrm>
        </p:grpSpPr>
        <p:pic>
          <p:nvPicPr>
            <p:cNvPr id="536" name="AutoShape 6" descr=""/>
            <p:cNvPicPr/>
            <p:nvPr/>
          </p:nvPicPr>
          <p:blipFill>
            <a:blip r:embed="rId5"/>
            <a:stretch/>
          </p:blipFill>
          <p:spPr>
            <a:xfrm>
              <a:off x="5840280" y="2852640"/>
              <a:ext cx="241956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6453360" y="3770280"/>
              <a:ext cx="114300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Relyin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Parti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(RP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8" name="AutoShape 9"/>
          <p:cNvGrpSpPr/>
          <p:nvPr/>
        </p:nvGrpSpPr>
        <p:grpSpPr>
          <a:xfrm>
            <a:off x="3157560" y="2651040"/>
            <a:ext cx="2878200" cy="909720"/>
            <a:chOff x="3157560" y="2651040"/>
            <a:chExt cx="2878200" cy="909720"/>
          </a:xfrm>
        </p:grpSpPr>
        <p:pic>
          <p:nvPicPr>
            <p:cNvPr id="539" name="AutoShape 9" descr=""/>
            <p:cNvPicPr/>
            <p:nvPr/>
          </p:nvPicPr>
          <p:blipFill>
            <a:blip r:embed="rId6"/>
            <a:stretch/>
          </p:blipFill>
          <p:spPr>
            <a:xfrm>
              <a:off x="3157560" y="2651040"/>
              <a:ext cx="287820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3454560" y="2889360"/>
              <a:ext cx="22348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Policy interop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41" name="AutoShape 10"/>
          <p:cNvGrpSpPr/>
          <p:nvPr/>
        </p:nvGrpSpPr>
        <p:grpSpPr>
          <a:xfrm>
            <a:off x="3157560" y="3517920"/>
            <a:ext cx="2878200" cy="834840"/>
            <a:chOff x="3157560" y="3517920"/>
            <a:chExt cx="2878200" cy="834840"/>
          </a:xfrm>
        </p:grpSpPr>
        <p:pic>
          <p:nvPicPr>
            <p:cNvPr id="542" name="AutoShape 10" descr=""/>
            <p:cNvPicPr/>
            <p:nvPr/>
          </p:nvPicPr>
          <p:blipFill>
            <a:blip r:embed="rId7"/>
            <a:stretch/>
          </p:blipFill>
          <p:spPr>
            <a:xfrm>
              <a:off x="3157560" y="3517920"/>
              <a:ext cx="2878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3429000" y="3735360"/>
              <a:ext cx="22860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chnical interop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44" name="AutoShape 7"/>
          <p:cNvGrpSpPr/>
          <p:nvPr/>
        </p:nvGrpSpPr>
        <p:grpSpPr>
          <a:xfrm>
            <a:off x="3011400" y="4395960"/>
            <a:ext cx="987480" cy="699840"/>
            <a:chOff x="3011400" y="4395960"/>
            <a:chExt cx="987480" cy="699840"/>
          </a:xfrm>
        </p:grpSpPr>
        <p:pic>
          <p:nvPicPr>
            <p:cNvPr id="545" name="AutoShape 7" descr=""/>
            <p:cNvPicPr/>
            <p:nvPr/>
          </p:nvPicPr>
          <p:blipFill>
            <a:blip r:embed="rId8"/>
            <a:stretch/>
          </p:blipFill>
          <p:spPr>
            <a:xfrm>
              <a:off x="3011400" y="4395960"/>
              <a:ext cx="9874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 rot="1585800">
              <a:off x="3069720" y="4644720"/>
              <a:ext cx="819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47" name="AutoShape 7"/>
          <p:cNvGrpSpPr/>
          <p:nvPr/>
        </p:nvGrpSpPr>
        <p:grpSpPr>
          <a:xfrm>
            <a:off x="4979880" y="4395960"/>
            <a:ext cx="987480" cy="699840"/>
            <a:chOff x="4979880" y="4395960"/>
            <a:chExt cx="987480" cy="699840"/>
          </a:xfrm>
        </p:grpSpPr>
        <p:pic>
          <p:nvPicPr>
            <p:cNvPr id="548" name="AutoShape 7" descr=""/>
            <p:cNvPicPr/>
            <p:nvPr/>
          </p:nvPicPr>
          <p:blipFill>
            <a:blip r:embed="rId9"/>
            <a:stretch/>
          </p:blipFill>
          <p:spPr>
            <a:xfrm>
              <a:off x="4979880" y="4395960"/>
              <a:ext cx="98748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 rot="20013600">
              <a:off x="5040360" y="4644720"/>
              <a:ext cx="8175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A5A72-077E-45C1-9AC2-97150BBFD09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ugust, OIDF and ICF published a joint white paper saying an open, Internet-scale approach to trust frameworks must b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o any trust framework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o all IdPs and R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o any qualified assessor/aud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o any qualified certification process (including self-certific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o evolution and adaptation to market fo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304920" y="6111720"/>
            <a:ext cx="850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47FDE-0DE0-42D3-A431-3234478FBA8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4" name="Rectangle 2" descr=""/>
          <p:cNvPicPr/>
          <p:nvPr/>
        </p:nvPicPr>
        <p:blipFill>
          <a:blip r:embed="rId1"/>
          <a:stretch/>
        </p:blipFill>
        <p:spPr>
          <a:xfrm>
            <a:off x="500040" y="523800"/>
            <a:ext cx="8193240" cy="10605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03280" y="158076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pen Internet-scale trust framework must al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er both Levels of Assurance (LOA) for IdPs and Levels of Protection (LOP) for R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 means for dealing with li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 simple, useful, scalable listing 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 open and transparent in its dealings, use public documents written in plain language, and provide frequent reports on all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09:35Z</dcterms:created>
  <dc:creator>Julie Cosgrove</dc:creator>
  <dc:description/>
  <dc:language>en-US</dc:language>
  <cp:lastModifiedBy>Drummond Reed</cp:lastModifiedBy>
  <dcterms:modified xsi:type="dcterms:W3CDTF">2009-11-22T23:59:28Z</dcterms:modified>
  <cp:revision>6</cp:revision>
  <dc:subject/>
  <dc:title>The Open Identity Framework</dc:title>
</cp:coreProperties>
</file>