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03936-2A8D-4A11-8CBC-DD98D6D96A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61BF3-58D6-482E-8C9D-50CFEB825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2455B-7937-4CB0-9EAF-EF68A46A6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9073A-E1A6-443C-93C6-CD53CE718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F54E4-18AD-47E6-8D81-88AF1CD79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CBF14-9AB8-4566-A0F6-B5C427665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80985-A0A5-4AE9-B397-A074D97AB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0CAF2-489E-43E4-8909-185140A3D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7267F-8B82-4651-9350-8E2040FCE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FAA2D-AEA9-4F2E-9607-32C867D69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FDACB-A168-4D14-8B37-E3F599121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8F758-B578-4C3E-AA48-3EB90223E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32DD-12B8-4110-83D6-490DE1782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3A5D-C054-4C00-A4F3-97FDEFF04E0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7056A2-FC33-42DF-9158-1C7C79D3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77BC55-0BDD-4CFE-BB0E-5F89A54E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02245E-D374-4691-B1A8-31613247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30A5C4-4D0B-4753-8258-AAA45D3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3C8D65-B94D-487A-B221-4860ACC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1EFEDE-4F89-4415-8694-0B4E9230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DF7BF8-6AFB-4159-A2A9-279D4FA2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D6B785-E188-4064-8A22-39223D54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FCCD66-C672-4BA4-BCCF-503490B7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8BAEB-314E-4C10-99A3-36825E0D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B40D-01F8-4939-A2D2-184E1106740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B5379-2817-46D8-A0BA-BD7B20EC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74B02-30EF-4722-BF22-6C0693EA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A2DB8-C67F-4186-BD58-463A8F07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31DCB-80AA-4ED5-8C5D-1811A3CB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DA007-3656-4763-9DA4-A374895B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976F4-B9CA-4F10-B83B-B5BF7B2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8CA88-59C7-4C3C-9C53-F8A85B94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E9780-3FE9-45E1-9F0A-8F6AC067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347DC-FC64-4A4F-BF44-5453ACE5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53833-6D84-4B6F-9A83-F5C8D69A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1635-DFA7-4067-B47F-0A4B5A4C481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5EB5E-B420-4CDA-B4AB-B54EA907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4C028-F0B8-44DE-9B10-A0268DAB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3E853-2B9F-4256-B44B-22C6D607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A18F6-7F86-4624-8886-C71142B4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2A906-F80C-4F28-B9C2-A15C87F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96245-5481-4107-9A9C-2DFD841F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D8A46-1405-4DA2-B5DB-0D827440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D236C-44F3-4A88-AA9D-417CCAD6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45BC4-2E5B-4D60-AF0C-975099B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9BD55-D258-46D7-83B8-15B73C0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BF9F8-50BF-43FC-B4D0-F3A6574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04350-3693-4F99-B64B-034E83AB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FB0D5-7084-4DCD-A42B-314E38FD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1C44-30DA-4C34-81F4-C1BF3FAF9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F2B11-60AD-4A84-9E58-0F5B51A0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231A7-D823-48EF-A4DB-CB5812F2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4DF45-2D93-4A00-8356-01460846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E75AC-EF5E-454B-951E-FA0DB0F6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62F03-2D18-4C1A-AAA1-B63C112D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994D-48FB-4277-9AE9-7A0A1FF447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03FEC-BDE3-49E7-A6FB-F5B6AEF1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8477C-6FC3-4417-B7EE-8FC58B93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F3E56-B745-4AD6-9A8A-B2540F5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FA451-2645-4CF9-97CA-8B4FDE5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72C21-7C04-4A07-8221-1A9D7F78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AE2C0-4A2D-4B2D-B0CF-4E75680F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6A07E-FFD8-44AC-8AEC-DF6ADA29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26CA6-BAE7-44C0-8144-6EE18A3E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DD13A-D81F-453F-98DA-5AD3D3D3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C94F8-0CD0-4BFF-B41B-08888A7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8E13-E184-460B-9472-802B8EC845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1C7FE-40E3-4038-B63B-535BCAD4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04E1D-3AEC-464D-BDBF-9ECCC546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EAC9A-D317-4E7A-9047-BC2318B3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3D86D-3F88-467C-8E7C-372D1D7E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A8F58-B62F-40CA-8382-49DBDB29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7B0B34-4A59-4F30-9C90-A3A6D1D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ABC28-0D59-4B7E-88CA-5A1AD8C3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D0FD32-310E-4ECD-841C-C15F65CC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25DE2E-8145-4225-8286-C55251C9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6A7983-71FE-4A83-B7FA-4E540E70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583A-9838-4B39-827C-08AB1B7EA24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F7E0E-7C4D-49FC-BB77-E6C002FE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84089-1807-4754-863B-0BB87066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943E5-CCBB-4373-9B7F-FEC00CC7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3ED2A-75B3-4ABB-A45B-AE865255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C78FA-7258-458E-B1D7-34A6DD33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CA427-E22B-4BF7-9C98-D9BABEA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614EE6-6480-4E25-AFCC-BB98ADE6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E2351-28D1-4869-8573-4C2D397B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F26ABA-5DC1-4938-813A-4A13B41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9D0A5-8CE0-4129-AB8F-F3EF2D41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20C6-0369-411E-90DB-09C1F5198D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2C622-AF26-45B5-BFDA-36B7B43A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DC436-6A81-4C3D-92AF-E3898025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090FC-5B57-4F9F-8085-E6D83C41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9EBEEF-9324-45FA-B6E0-11914F51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B82206-DBAA-46DD-8E2C-94059DE7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182941-3A3D-4794-A0E5-C1CC162A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D23DB3-3340-461D-AF8D-A8B2696B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B1349A-148A-4960-8BF2-85A32EF6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806F9-E934-4F51-AC0F-F5983BE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3F3014-F6F8-45A7-BCCF-6C944396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CDD1-3547-4F95-A75A-72BB813DAC2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601AC6-DAA4-4782-958E-964A28DF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EDABF-027B-4ABD-8CC4-43028056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AC5196-F3BB-41F6-A961-0309DCC4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CC0434-ED61-491C-BD79-B3F02373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AA943D-9BFD-44C7-9073-512022D4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B5FC42-A9DE-4286-A3AD-63006939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4BA6B0-767B-4043-B578-11DDFEBB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6869EA-28D7-4A7A-8FEA-EE809B4E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568D4B-A728-4C83-81C7-513DC465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492835-FB26-4762-B3EA-FBC0BC50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0189-8293-460B-9FAB-DA77AB94665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D924CB-E022-499B-81B8-EBA2DF6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380AC1-5A0D-456B-B5D8-488C751E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2210C-246E-4AD1-A2DF-B3511729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1A20CD-D3B9-48AC-BCAF-1F18FAF9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97AB08-CAF2-414B-AD58-6EFF4312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E82CF4-DBFD-44DB-9FBE-192E4B91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296684-C5C0-4BDC-A696-63084B11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9C3184-E764-4729-ABF6-C6DE5022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16DD6E-6FF6-4DAD-8FE4-3B1B329E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9692EB-30F6-4465-A512-7589F6CD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4CC5-188D-40A2-8C24-E3CAA6F977A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FA8273-23D0-46D0-ADAE-B67A1AAC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A6EC3-15B4-4E06-BBEF-2D222935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B5610E-1A3F-4B04-9193-B289B8C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FDA78E-1D50-4166-B870-EE3C7F7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067E21-2A8C-4AA5-811D-ED3E51C5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3F3311-ABF4-4FA8-B2B7-9637525D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A6CAE0-0BF7-4DB9-93D7-0B7D177F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E23024-3754-405A-9CB7-689F4BF9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DE15B3-BAF8-45EC-985F-7244B44A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3FDE8D-00F9-4F90-82FC-E328D141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2005D-F682-4B9E-90BC-9F851434F7C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6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9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8ADDA-66EF-4927-B605-962C876BFDB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5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F63D6-1C6A-402A-8AED-8AB860C05F2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4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56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33DF8-E5A5-4F86-AB93-D20D3534005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8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5D606-E6F4-4EB3-B172-A0E3EBB9578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8"/>
          <p:cNvSpPr/>
          <p:nvPr/>
        </p:nvSpPr>
        <p:spPr>
          <a:xfrm>
            <a:off x="304920" y="27936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1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21546-9617-43FD-948A-1D8CFA743B8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4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89480-7EFB-4327-9C89-CF2D1403E55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8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6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E4C9B-55B4-46D7-8EEA-C0B4F6A5536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10DEC-724D-4549-B960-94FB7C56520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3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8CA04-90F8-41CA-9FE0-349176BA840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0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475E5-B863-491D-B655-75E994EE55C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8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0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C619B-4A93-4DBD-AFB6-D2939A4C1F6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3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85FF1-3CED-4D5E-B48A-B79F4884ADE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ounded Rectangle 8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A03F9-0B65-4E95-B62C-9A979463A67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6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5F341-CA29-476D-866B-E81DEA0AF91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6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9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8D579-E31D-433A-9048-FA700D71F27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9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37463-0328-4E39-A77C-DA9E10EDA6A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ounded Rectangle 8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0F36D-768B-4E08-8406-AE3EAC6AA10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2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7B85D-67A4-4EB1-BC93-31ABC5EC05D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4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6.png"/><Relationship Id="rId3" Type="http://schemas.openxmlformats.org/officeDocument/2006/relationships/image" Target="../media/image43.png"/><Relationship Id="rId4" Type="http://schemas.openxmlformats.org/officeDocument/2006/relationships/image" Target="../media/image38.png"/><Relationship Id="rId5" Type="http://schemas.openxmlformats.org/officeDocument/2006/relationships/image" Target="../media/image44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378000" y="1878120"/>
            <a:ext cx="8180280" cy="14810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80880" y="4119120"/>
            <a:ext cx="5943600" cy="2205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766f"/>
                </a:solidFill>
                <a:latin typeface="Verdana"/>
              </a:rPr>
              <a:t>Don Thibeau,</a:t>
            </a:r>
            <a:br>
              <a:rPr sz="1600"/>
            </a:br>
            <a:r>
              <a:rPr b="0" lang="en-US" sz="1600" spc="-1" strike="noStrike">
                <a:solidFill>
                  <a:srgbClr val="79766f"/>
                </a:solidFill>
                <a:latin typeface="Verdana"/>
              </a:rPr>
              <a:t>Executive Director, OpenID Foundation (OIDF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766f"/>
                </a:solidFill>
                <a:latin typeface="Verdana"/>
              </a:rPr>
              <a:t>Drummond Reed,</a:t>
            </a:r>
            <a:br>
              <a:rPr sz="1600"/>
            </a:br>
            <a:r>
              <a:rPr b="0" lang="en-US" sz="1600" spc="-1" strike="noStrike">
                <a:solidFill>
                  <a:srgbClr val="79766f"/>
                </a:solidFill>
                <a:latin typeface="Verdana"/>
              </a:rPr>
              <a:t>Executive Director, Information Card Foundation (IC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50" descr="openid-logo-wordmark.png"/>
          <p:cNvPicPr/>
          <p:nvPr/>
        </p:nvPicPr>
        <p:blipFill>
          <a:blip r:embed="rId2"/>
          <a:stretch/>
        </p:blipFill>
        <p:spPr>
          <a:xfrm>
            <a:off x="6324480" y="3857760"/>
            <a:ext cx="2225880" cy="888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1" descr="Info Card Logo"/>
          <p:cNvPicPr/>
          <p:nvPr/>
        </p:nvPicPr>
        <p:blipFill>
          <a:blip r:embed="rId3"/>
          <a:stretch/>
        </p:blipFill>
        <p:spPr>
          <a:xfrm>
            <a:off x="6629400" y="5133960"/>
            <a:ext cx="19209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C2D0F-27E7-4F07-86D9-FF2B8ADBD07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lowing slide shows the basic design reflecting the OIF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llustrates the relationships between the four parties connected by OIF legal agre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IF TFP itsel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itors/asses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ty provi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ying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6"/>
          <p:cNvSpPr/>
          <p:nvPr/>
        </p:nvSpPr>
        <p:spPr>
          <a:xfrm>
            <a:off x="762120" y="5010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ust framework agre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495360" y="5429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Text Box 28"/>
          <p:cNvSpPr/>
          <p:nvPr/>
        </p:nvSpPr>
        <p:spPr>
          <a:xfrm>
            <a:off x="762120" y="52768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tional direct agre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AutoShape 31"/>
          <p:cNvGrpSpPr/>
          <p:nvPr/>
        </p:nvGrpSpPr>
        <p:grpSpPr>
          <a:xfrm>
            <a:off x="476280" y="5006880"/>
            <a:ext cx="334800" cy="255600"/>
            <a:chOff x="476280" y="5006880"/>
            <a:chExt cx="334800" cy="255600"/>
          </a:xfrm>
        </p:grpSpPr>
        <p:pic>
          <p:nvPicPr>
            <p:cNvPr id="563" name="AutoShape 31" descr=""/>
            <p:cNvPicPr/>
            <p:nvPr/>
          </p:nvPicPr>
          <p:blipFill>
            <a:blip r:embed="rId1"/>
            <a:stretch/>
          </p:blipFill>
          <p:spPr>
            <a:xfrm>
              <a:off x="476280" y="5006880"/>
              <a:ext cx="33480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 rot="5400000">
              <a:off x="591840" y="5014800"/>
              <a:ext cx="111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3962520" y="4324320"/>
            <a:ext cx="1427040" cy="1427040"/>
            <a:chOff x="3962520" y="4324320"/>
            <a:chExt cx="1427040" cy="1427040"/>
          </a:xfrm>
        </p:grpSpPr>
        <p:pic>
          <p:nvPicPr>
            <p:cNvPr id="566" name="Oval 11" descr=""/>
            <p:cNvPicPr/>
            <p:nvPr/>
          </p:nvPicPr>
          <p:blipFill>
            <a:blip r:embed="rId2"/>
            <a:stretch/>
          </p:blipFill>
          <p:spPr>
            <a:xfrm>
              <a:off x="3962520" y="4324320"/>
              <a:ext cx="142704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195800" y="4557600"/>
              <a:ext cx="9158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8" name="Rectangle 5"/>
          <p:cNvGrpSpPr/>
          <p:nvPr/>
        </p:nvGrpSpPr>
        <p:grpSpPr>
          <a:xfrm>
            <a:off x="652320" y="2117880"/>
            <a:ext cx="1584360" cy="1536480"/>
            <a:chOff x="652320" y="2117880"/>
            <a:chExt cx="1584360" cy="1536480"/>
          </a:xfrm>
        </p:grpSpPr>
        <p:pic>
          <p:nvPicPr>
            <p:cNvPr id="569" name="Rectangle 5" descr=""/>
            <p:cNvPicPr/>
            <p:nvPr/>
          </p:nvPicPr>
          <p:blipFill>
            <a:blip r:embed="rId3"/>
            <a:stretch/>
          </p:blipFill>
          <p:spPr>
            <a:xfrm>
              <a:off x="652320" y="2117880"/>
              <a:ext cx="158436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696960" y="2157480"/>
              <a:ext cx="145260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Identit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vider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Id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1" name="AutoShape 6"/>
          <p:cNvGrpSpPr/>
          <p:nvPr/>
        </p:nvGrpSpPr>
        <p:grpSpPr>
          <a:xfrm>
            <a:off x="6802560" y="2025720"/>
            <a:ext cx="1877760" cy="1549440"/>
            <a:chOff x="6802560" y="2025720"/>
            <a:chExt cx="1877760" cy="1549440"/>
          </a:xfrm>
        </p:grpSpPr>
        <p:pic>
          <p:nvPicPr>
            <p:cNvPr id="572" name="AutoShape 6" descr=""/>
            <p:cNvPicPr/>
            <p:nvPr/>
          </p:nvPicPr>
          <p:blipFill>
            <a:blip r:embed="rId4"/>
            <a:stretch/>
          </p:blipFill>
          <p:spPr>
            <a:xfrm>
              <a:off x="6802560" y="2025720"/>
              <a:ext cx="18777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7280280" y="2778120"/>
              <a:ext cx="871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lying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ar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R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74" name="Picture 4" descr="female user"/>
          <p:cNvPicPr/>
          <p:nvPr/>
        </p:nvPicPr>
        <p:blipFill>
          <a:blip r:embed="rId5"/>
          <a:stretch/>
        </p:blipFill>
        <p:spPr>
          <a:xfrm>
            <a:off x="4334040" y="4468680"/>
            <a:ext cx="658800" cy="990720"/>
          </a:xfrm>
          <a:prstGeom prst="rect">
            <a:avLst/>
          </a:prstGeom>
          <a:ln w="0">
            <a:noFill/>
          </a:ln>
        </p:spPr>
      </p:pic>
      <p:cxnSp>
        <p:nvCxnSpPr>
          <p:cNvPr id="575" name="AutoShape 23"/>
          <p:cNvCxnSpPr>
            <a:endCxn id="569" idx="2"/>
          </p:cNvCxnSpPr>
          <p:nvPr/>
        </p:nvCxnSpPr>
        <p:spPr>
          <a:xfrm rot="10800000">
            <a:off x="1443960" y="3653640"/>
            <a:ext cx="2529720" cy="14486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6" name="AutoShape 24"/>
          <p:cNvCxnSpPr/>
          <p:nvPr/>
        </p:nvCxnSpPr>
        <p:spPr>
          <a:xfrm rot="5400000">
            <a:off x="4534920" y="-1113120"/>
            <a:ext cx="76680" cy="6287400"/>
          </a:xfrm>
          <a:prstGeom prst="curvedConnector5">
            <a:avLst>
              <a:gd name="adj1" fmla="val -1586320"/>
              <a:gd name="adj2" fmla="val 50000"/>
              <a:gd name="adj3" fmla="val -1586320"/>
            </a:avLst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7" name="AutoShape 23"/>
          <p:cNvCxnSpPr/>
          <p:nvPr/>
        </p:nvCxnSpPr>
        <p:spPr>
          <a:xfrm flipV="1">
            <a:off x="5301000" y="3561840"/>
            <a:ext cx="2528280" cy="14486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78" name="Text Box 14"/>
          <p:cNvSpPr/>
          <p:nvPr/>
        </p:nvSpPr>
        <p:spPr>
          <a:xfrm>
            <a:off x="4025880" y="5342040"/>
            <a:ext cx="12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9" name="AutoShape 6"/>
          <p:cNvGrpSpPr/>
          <p:nvPr/>
        </p:nvGrpSpPr>
        <p:grpSpPr>
          <a:xfrm>
            <a:off x="3187800" y="2239920"/>
            <a:ext cx="2968560" cy="1073160"/>
            <a:chOff x="3187800" y="2239920"/>
            <a:chExt cx="2968560" cy="1073160"/>
          </a:xfrm>
        </p:grpSpPr>
        <p:pic>
          <p:nvPicPr>
            <p:cNvPr id="580" name="AutoShape 6" descr=""/>
            <p:cNvPicPr/>
            <p:nvPr/>
          </p:nvPicPr>
          <p:blipFill>
            <a:blip r:embed="rId6"/>
            <a:stretch/>
          </p:blipFill>
          <p:spPr>
            <a:xfrm>
              <a:off x="3187800" y="2239920"/>
              <a:ext cx="29685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3278160" y="2325600"/>
              <a:ext cx="274176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rust Framework Provide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the Open Identity Framework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2" name="AutoShape 8"/>
          <p:cNvGrpSpPr/>
          <p:nvPr/>
        </p:nvGrpSpPr>
        <p:grpSpPr>
          <a:xfrm>
            <a:off x="3279600" y="1203480"/>
            <a:ext cx="2876760" cy="738000"/>
            <a:chOff x="3279600" y="1203480"/>
            <a:chExt cx="2876760" cy="738000"/>
          </a:xfrm>
        </p:grpSpPr>
        <p:pic>
          <p:nvPicPr>
            <p:cNvPr id="583" name="AutoShape 8" descr=""/>
            <p:cNvPicPr/>
            <p:nvPr/>
          </p:nvPicPr>
          <p:blipFill>
            <a:blip r:embed="rId7"/>
            <a:stretch/>
          </p:blipFill>
          <p:spPr>
            <a:xfrm>
              <a:off x="3279600" y="1203480"/>
              <a:ext cx="2876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3352680" y="1273320"/>
              <a:ext cx="2684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uditors/assesso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5" name="AutoShape 10"/>
          <p:cNvGrpSpPr/>
          <p:nvPr/>
        </p:nvGrpSpPr>
        <p:grpSpPr>
          <a:xfrm>
            <a:off x="3206880" y="3598920"/>
            <a:ext cx="3028680" cy="744480"/>
            <a:chOff x="3206880" y="3598920"/>
            <a:chExt cx="3028680" cy="744480"/>
          </a:xfrm>
        </p:grpSpPr>
        <p:pic>
          <p:nvPicPr>
            <p:cNvPr id="586" name="AutoShape 10" descr=""/>
            <p:cNvPicPr/>
            <p:nvPr/>
          </p:nvPicPr>
          <p:blipFill>
            <a:blip r:embed="rId8"/>
            <a:stretch/>
          </p:blipFill>
          <p:spPr>
            <a:xfrm>
              <a:off x="3206880" y="3598920"/>
              <a:ext cx="3028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278160" y="3670200"/>
              <a:ext cx="2835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rust framework authoriti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8" name="AutoShape 19"/>
          <p:cNvGrpSpPr/>
          <p:nvPr/>
        </p:nvGrpSpPr>
        <p:grpSpPr>
          <a:xfrm>
            <a:off x="2206800" y="2587680"/>
            <a:ext cx="865080" cy="420480"/>
            <a:chOff x="2206800" y="2587680"/>
            <a:chExt cx="865080" cy="420480"/>
          </a:xfrm>
        </p:grpSpPr>
        <p:pic>
          <p:nvPicPr>
            <p:cNvPr id="589" name="AutoShape 19" descr=""/>
            <p:cNvPicPr/>
            <p:nvPr/>
          </p:nvPicPr>
          <p:blipFill>
            <a:blip r:embed="rId9"/>
            <a:stretch/>
          </p:blipFill>
          <p:spPr>
            <a:xfrm>
              <a:off x="2206800" y="2587680"/>
              <a:ext cx="8650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5400000">
              <a:off x="2546280" y="2435400"/>
              <a:ext cx="19368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1" name="AutoShape 19"/>
          <p:cNvGrpSpPr/>
          <p:nvPr/>
        </p:nvGrpSpPr>
        <p:grpSpPr>
          <a:xfrm>
            <a:off x="6229440" y="2587680"/>
            <a:ext cx="873000" cy="420480"/>
            <a:chOff x="6229440" y="2587680"/>
            <a:chExt cx="873000" cy="420480"/>
          </a:xfrm>
        </p:grpSpPr>
        <p:pic>
          <p:nvPicPr>
            <p:cNvPr id="592" name="AutoShape 19" descr=""/>
            <p:cNvPicPr/>
            <p:nvPr/>
          </p:nvPicPr>
          <p:blipFill>
            <a:blip r:embed="rId10"/>
            <a:stretch/>
          </p:blipFill>
          <p:spPr>
            <a:xfrm>
              <a:off x="6229440" y="2587680"/>
              <a:ext cx="8730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5400000">
              <a:off x="6570720" y="2435400"/>
              <a:ext cx="19368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4" name="AutoShape 19"/>
          <p:cNvGrpSpPr/>
          <p:nvPr/>
        </p:nvGrpSpPr>
        <p:grpSpPr>
          <a:xfrm>
            <a:off x="4438800" y="1886040"/>
            <a:ext cx="419040" cy="360360"/>
            <a:chOff x="4438800" y="1886040"/>
            <a:chExt cx="419040" cy="360360"/>
          </a:xfrm>
        </p:grpSpPr>
        <p:pic>
          <p:nvPicPr>
            <p:cNvPr id="595" name="AutoShape 19" descr=""/>
            <p:cNvPicPr/>
            <p:nvPr/>
          </p:nvPicPr>
          <p:blipFill>
            <a:blip r:embed="rId11"/>
            <a:stretch/>
          </p:blipFill>
          <p:spPr>
            <a:xfrm>
              <a:off x="4438800" y="1886040"/>
              <a:ext cx="4190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4552920" y="1949400"/>
              <a:ext cx="1936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7" name="AutoShape 19"/>
          <p:cNvGrpSpPr/>
          <p:nvPr/>
        </p:nvGrpSpPr>
        <p:grpSpPr>
          <a:xfrm>
            <a:off x="4438800" y="3257640"/>
            <a:ext cx="419040" cy="360360"/>
            <a:chOff x="4438800" y="3257640"/>
            <a:chExt cx="419040" cy="360360"/>
          </a:xfrm>
        </p:grpSpPr>
        <p:pic>
          <p:nvPicPr>
            <p:cNvPr id="598" name="AutoShape 19" descr=""/>
            <p:cNvPicPr/>
            <p:nvPr/>
          </p:nvPicPr>
          <p:blipFill>
            <a:blip r:embed="rId12"/>
            <a:stretch/>
          </p:blipFill>
          <p:spPr>
            <a:xfrm>
              <a:off x="4438800" y="3257640"/>
              <a:ext cx="4190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552920" y="3321000"/>
              <a:ext cx="1936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0912A-7EE6-428C-A394-526C7DCA691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1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IF design explicitly supports at two levels of interop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cal certification listings drive adoption before the trust layer is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icy certification listings drives adoption where explicit trust is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ertification and third-party certification is supported at both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cal and policy requirements (“profiles”) can be reused at both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Rectangle 5"/>
          <p:cNvGrpSpPr/>
          <p:nvPr/>
        </p:nvGrpSpPr>
        <p:grpSpPr>
          <a:xfrm>
            <a:off x="841320" y="1432080"/>
            <a:ext cx="1584360" cy="1536480"/>
            <a:chOff x="841320" y="1432080"/>
            <a:chExt cx="1584360" cy="1536480"/>
          </a:xfrm>
        </p:grpSpPr>
        <p:pic>
          <p:nvPicPr>
            <p:cNvPr id="604" name="Rectangle 5" descr=""/>
            <p:cNvPicPr/>
            <p:nvPr/>
          </p:nvPicPr>
          <p:blipFill>
            <a:blip r:embed="rId1"/>
            <a:stretch/>
          </p:blipFill>
          <p:spPr>
            <a:xfrm>
              <a:off x="841320" y="1432080"/>
              <a:ext cx="158436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882720" y="1476360"/>
              <a:ext cx="145260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Identit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vider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Id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AutoShape 6"/>
          <p:cNvGrpSpPr/>
          <p:nvPr/>
        </p:nvGrpSpPr>
        <p:grpSpPr>
          <a:xfrm>
            <a:off x="6802560" y="1347840"/>
            <a:ext cx="1877760" cy="1547640"/>
            <a:chOff x="6802560" y="1347840"/>
            <a:chExt cx="1877760" cy="1547640"/>
          </a:xfrm>
        </p:grpSpPr>
        <p:pic>
          <p:nvPicPr>
            <p:cNvPr id="607" name="AutoShape 6" descr=""/>
            <p:cNvPicPr/>
            <p:nvPr/>
          </p:nvPicPr>
          <p:blipFill>
            <a:blip r:embed="rId2"/>
            <a:stretch/>
          </p:blipFill>
          <p:spPr>
            <a:xfrm>
              <a:off x="6802560" y="1347840"/>
              <a:ext cx="18777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7280280" y="2095560"/>
              <a:ext cx="871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lying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ar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R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9" name="AutoShape 6"/>
          <p:cNvGrpSpPr/>
          <p:nvPr/>
        </p:nvGrpSpPr>
        <p:grpSpPr>
          <a:xfrm>
            <a:off x="3206880" y="1554120"/>
            <a:ext cx="2962080" cy="3146400"/>
            <a:chOff x="3206880" y="1554120"/>
            <a:chExt cx="2962080" cy="3146400"/>
          </a:xfrm>
        </p:grpSpPr>
        <p:pic>
          <p:nvPicPr>
            <p:cNvPr id="610" name="AutoShape 6" descr=""/>
            <p:cNvPicPr/>
            <p:nvPr/>
          </p:nvPicPr>
          <p:blipFill>
            <a:blip r:embed="rId3"/>
            <a:stretch/>
          </p:blipFill>
          <p:spPr>
            <a:xfrm>
              <a:off x="3206880" y="1554120"/>
              <a:ext cx="2962080" cy="31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3384720" y="1736640"/>
              <a:ext cx="255564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rust Framework Provi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(the Open Identity Framework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2" name="AutoShape 8"/>
          <p:cNvGrpSpPr/>
          <p:nvPr/>
        </p:nvGrpSpPr>
        <p:grpSpPr>
          <a:xfrm>
            <a:off x="3279600" y="517680"/>
            <a:ext cx="2876760" cy="744480"/>
            <a:chOff x="3279600" y="517680"/>
            <a:chExt cx="2876760" cy="744480"/>
          </a:xfrm>
        </p:grpSpPr>
        <p:pic>
          <p:nvPicPr>
            <p:cNvPr id="613" name="AutoShape 8" descr=""/>
            <p:cNvPicPr/>
            <p:nvPr/>
          </p:nvPicPr>
          <p:blipFill>
            <a:blip r:embed="rId4"/>
            <a:stretch/>
          </p:blipFill>
          <p:spPr>
            <a:xfrm>
              <a:off x="3279600" y="517680"/>
              <a:ext cx="28767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3352680" y="592200"/>
              <a:ext cx="2684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uditors/assesso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5" name="AutoShape 10"/>
          <p:cNvGrpSpPr/>
          <p:nvPr/>
        </p:nvGrpSpPr>
        <p:grpSpPr>
          <a:xfrm>
            <a:off x="3206880" y="4943520"/>
            <a:ext cx="3028680" cy="744480"/>
            <a:chOff x="3206880" y="4943520"/>
            <a:chExt cx="3028680" cy="744480"/>
          </a:xfrm>
        </p:grpSpPr>
        <p:pic>
          <p:nvPicPr>
            <p:cNvPr id="616" name="AutoShape 10" descr=""/>
            <p:cNvPicPr/>
            <p:nvPr/>
          </p:nvPicPr>
          <p:blipFill>
            <a:blip r:embed="rId5"/>
            <a:stretch/>
          </p:blipFill>
          <p:spPr>
            <a:xfrm>
              <a:off x="3206880" y="4943520"/>
              <a:ext cx="3028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3278160" y="5018040"/>
              <a:ext cx="2835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rust framework authoriti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8" name="AutoShape 19"/>
          <p:cNvGrpSpPr/>
          <p:nvPr/>
        </p:nvGrpSpPr>
        <p:grpSpPr>
          <a:xfrm>
            <a:off x="2389320" y="1908000"/>
            <a:ext cx="871560" cy="414360"/>
            <a:chOff x="2389320" y="1908000"/>
            <a:chExt cx="871560" cy="414360"/>
          </a:xfrm>
        </p:grpSpPr>
        <p:pic>
          <p:nvPicPr>
            <p:cNvPr id="619" name="AutoShape 19" descr=""/>
            <p:cNvPicPr/>
            <p:nvPr/>
          </p:nvPicPr>
          <p:blipFill>
            <a:blip r:embed="rId6"/>
            <a:stretch/>
          </p:blipFill>
          <p:spPr>
            <a:xfrm>
              <a:off x="2389320" y="1908000"/>
              <a:ext cx="8715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 rot="5400000">
              <a:off x="2730600" y="1753200"/>
              <a:ext cx="193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1" name="AutoShape 19"/>
          <p:cNvGrpSpPr/>
          <p:nvPr/>
        </p:nvGrpSpPr>
        <p:grpSpPr>
          <a:xfrm>
            <a:off x="6229440" y="1908000"/>
            <a:ext cx="873000" cy="414360"/>
            <a:chOff x="6229440" y="1908000"/>
            <a:chExt cx="873000" cy="414360"/>
          </a:xfrm>
        </p:grpSpPr>
        <p:pic>
          <p:nvPicPr>
            <p:cNvPr id="622" name="AutoShape 19" descr=""/>
            <p:cNvPicPr/>
            <p:nvPr/>
          </p:nvPicPr>
          <p:blipFill>
            <a:blip r:embed="rId7"/>
            <a:stretch/>
          </p:blipFill>
          <p:spPr>
            <a:xfrm>
              <a:off x="6229440" y="1908000"/>
              <a:ext cx="8730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 rot="5400000">
              <a:off x="6569280" y="1753200"/>
              <a:ext cx="193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AutoShape 19"/>
          <p:cNvGrpSpPr/>
          <p:nvPr/>
        </p:nvGrpSpPr>
        <p:grpSpPr>
          <a:xfrm>
            <a:off x="4438800" y="1206360"/>
            <a:ext cx="419040" cy="354240"/>
            <a:chOff x="4438800" y="1206360"/>
            <a:chExt cx="419040" cy="354240"/>
          </a:xfrm>
        </p:grpSpPr>
        <p:pic>
          <p:nvPicPr>
            <p:cNvPr id="625" name="AutoShape 19" descr=""/>
            <p:cNvPicPr/>
            <p:nvPr/>
          </p:nvPicPr>
          <p:blipFill>
            <a:blip r:embed="rId8"/>
            <a:stretch/>
          </p:blipFill>
          <p:spPr>
            <a:xfrm>
              <a:off x="4438800" y="1206360"/>
              <a:ext cx="419040" cy="3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4552920" y="1268280"/>
              <a:ext cx="1936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27" name="AutoShape 9"/>
          <p:cNvSpPr/>
          <p:nvPr/>
        </p:nvSpPr>
        <p:spPr>
          <a:xfrm>
            <a:off x="3367080" y="3616200"/>
            <a:ext cx="2590920" cy="914400"/>
          </a:xfrm>
          <a:prstGeom prst="horizontalScroll">
            <a:avLst>
              <a:gd name="adj" fmla="val 12500"/>
            </a:avLst>
          </a:prstGeom>
          <a:solidFill>
            <a:srgbClr val="4a95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ical Certifica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AutoShape 9"/>
          <p:cNvSpPr/>
          <p:nvPr/>
        </p:nvSpPr>
        <p:spPr>
          <a:xfrm>
            <a:off x="455760" y="3716280"/>
            <a:ext cx="2514600" cy="762120"/>
          </a:xfrm>
          <a:prstGeom prst="ellipse">
            <a:avLst/>
          </a:prstGeom>
          <a:solidFill>
            <a:srgbClr val="4a9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 Interop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9" name="Group 47"/>
          <p:cNvGrpSpPr/>
          <p:nvPr/>
        </p:nvGrpSpPr>
        <p:grpSpPr>
          <a:xfrm>
            <a:off x="1518480" y="2804760"/>
            <a:ext cx="6287760" cy="891000"/>
            <a:chOff x="1518480" y="2804760"/>
            <a:chExt cx="6287760" cy="891000"/>
          </a:xfrm>
        </p:grpSpPr>
        <p:cxnSp>
          <p:nvCxnSpPr>
            <p:cNvPr id="630" name="AutoShape 19"/>
            <p:cNvCxnSpPr/>
            <p:nvPr/>
          </p:nvCxnSpPr>
          <p:spPr>
            <a:xfrm flipH="1" flipV="1" rot="5400000">
              <a:off x="5800680" y="1690560"/>
              <a:ext cx="848160" cy="3162960"/>
            </a:xfrm>
            <a:prstGeom prst="curvedConnector5">
              <a:avLst>
                <a:gd name="adj1" fmla="val 53842"/>
                <a:gd name="adj2" fmla="val 49994"/>
                <a:gd name="adj3" fmla="val 53842"/>
              </a:avLst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31" name="AutoShape 20"/>
            <p:cNvCxnSpPr/>
            <p:nvPr/>
          </p:nvCxnSpPr>
          <p:spPr>
            <a:xfrm flipV="1" rot="16200000">
              <a:off x="2635560" y="1687680"/>
              <a:ext cx="891360" cy="3125160"/>
            </a:xfrm>
            <a:prstGeom prst="curvedConnector5">
              <a:avLst>
                <a:gd name="adj1" fmla="val 53656"/>
                <a:gd name="adj2" fmla="val 50000"/>
                <a:gd name="adj3" fmla="val 53656"/>
              </a:avLst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32" name="Bent Arrow 49"/>
          <p:cNvSpPr/>
          <p:nvPr/>
        </p:nvSpPr>
        <p:spPr>
          <a:xfrm rot="16200000">
            <a:off x="1848240" y="4200840"/>
            <a:ext cx="838440" cy="1496880"/>
          </a:xfrm>
          <a:prstGeom prst="pie">
            <a:avLst/>
          </a:prstGeom>
          <a:solidFill>
            <a:srgbClr val="4a95bc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Right Arrow 50"/>
          <p:cNvSpPr/>
          <p:nvPr/>
        </p:nvSpPr>
        <p:spPr>
          <a:xfrm>
            <a:off x="3016080" y="3933720"/>
            <a:ext cx="351000" cy="371520"/>
          </a:xfrm>
          <a:prstGeom prst="rightArrow">
            <a:avLst>
              <a:gd name="adj1" fmla="val 50000"/>
              <a:gd name="adj2" fmla="val 26551"/>
            </a:avLst>
          </a:prstGeom>
          <a:solidFill>
            <a:srgbClr val="4a95bc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4" name="AutoShape 19"/>
          <p:cNvGrpSpPr/>
          <p:nvPr/>
        </p:nvGrpSpPr>
        <p:grpSpPr>
          <a:xfrm>
            <a:off x="4438800" y="4610160"/>
            <a:ext cx="419040" cy="353880"/>
            <a:chOff x="4438800" y="4610160"/>
            <a:chExt cx="419040" cy="353880"/>
          </a:xfrm>
        </p:grpSpPr>
        <p:pic>
          <p:nvPicPr>
            <p:cNvPr id="635" name="AutoShape 19" descr=""/>
            <p:cNvPicPr/>
            <p:nvPr/>
          </p:nvPicPr>
          <p:blipFill>
            <a:blip r:embed="rId9"/>
            <a:stretch/>
          </p:blipFill>
          <p:spPr>
            <a:xfrm>
              <a:off x="4438800" y="4610160"/>
              <a:ext cx="41904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552920" y="4671720"/>
              <a:ext cx="1936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Rectangle 5"/>
          <p:cNvGrpSpPr/>
          <p:nvPr/>
        </p:nvGrpSpPr>
        <p:grpSpPr>
          <a:xfrm>
            <a:off x="841320" y="1432080"/>
            <a:ext cx="1584360" cy="1536480"/>
            <a:chOff x="841320" y="1432080"/>
            <a:chExt cx="1584360" cy="1536480"/>
          </a:xfrm>
        </p:grpSpPr>
        <p:pic>
          <p:nvPicPr>
            <p:cNvPr id="638" name="Rectangle 5" descr=""/>
            <p:cNvPicPr/>
            <p:nvPr/>
          </p:nvPicPr>
          <p:blipFill>
            <a:blip r:embed="rId1"/>
            <a:stretch/>
          </p:blipFill>
          <p:spPr>
            <a:xfrm>
              <a:off x="841320" y="1432080"/>
              <a:ext cx="158436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882720" y="1476360"/>
              <a:ext cx="145260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Identit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vider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Id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0" name="AutoShape 6"/>
          <p:cNvGrpSpPr/>
          <p:nvPr/>
        </p:nvGrpSpPr>
        <p:grpSpPr>
          <a:xfrm>
            <a:off x="6802560" y="1347840"/>
            <a:ext cx="1877760" cy="1547640"/>
            <a:chOff x="6802560" y="1347840"/>
            <a:chExt cx="1877760" cy="1547640"/>
          </a:xfrm>
        </p:grpSpPr>
        <p:pic>
          <p:nvPicPr>
            <p:cNvPr id="641" name="AutoShape 6" descr=""/>
            <p:cNvPicPr/>
            <p:nvPr/>
          </p:nvPicPr>
          <p:blipFill>
            <a:blip r:embed="rId2"/>
            <a:stretch/>
          </p:blipFill>
          <p:spPr>
            <a:xfrm>
              <a:off x="6802560" y="1347840"/>
              <a:ext cx="18777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280280" y="2095560"/>
              <a:ext cx="871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lying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ar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R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3" name="AutoShape 6"/>
          <p:cNvGrpSpPr/>
          <p:nvPr/>
        </p:nvGrpSpPr>
        <p:grpSpPr>
          <a:xfrm>
            <a:off x="3206880" y="1554120"/>
            <a:ext cx="2962080" cy="3503520"/>
            <a:chOff x="3206880" y="1554120"/>
            <a:chExt cx="2962080" cy="3503520"/>
          </a:xfrm>
        </p:grpSpPr>
        <p:pic>
          <p:nvPicPr>
            <p:cNvPr id="644" name="AutoShape 6" descr=""/>
            <p:cNvPicPr/>
            <p:nvPr/>
          </p:nvPicPr>
          <p:blipFill>
            <a:blip r:embed="rId3"/>
            <a:stretch/>
          </p:blipFill>
          <p:spPr>
            <a:xfrm>
              <a:off x="3206880" y="1554120"/>
              <a:ext cx="2962080" cy="35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384720" y="1732320"/>
              <a:ext cx="2555640" cy="31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rust Framework Provi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(the Open Identity Framework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6" name="AutoShape 8"/>
          <p:cNvGrpSpPr/>
          <p:nvPr/>
        </p:nvGrpSpPr>
        <p:grpSpPr>
          <a:xfrm>
            <a:off x="3279600" y="517680"/>
            <a:ext cx="2876760" cy="744480"/>
            <a:chOff x="3279600" y="517680"/>
            <a:chExt cx="2876760" cy="744480"/>
          </a:xfrm>
        </p:grpSpPr>
        <p:pic>
          <p:nvPicPr>
            <p:cNvPr id="647" name="AutoShape 8" descr=""/>
            <p:cNvPicPr/>
            <p:nvPr/>
          </p:nvPicPr>
          <p:blipFill>
            <a:blip r:embed="rId4"/>
            <a:stretch/>
          </p:blipFill>
          <p:spPr>
            <a:xfrm>
              <a:off x="3279600" y="517680"/>
              <a:ext cx="28767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352680" y="592200"/>
              <a:ext cx="2684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uditors/assesso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9" name="AutoShape 10"/>
          <p:cNvGrpSpPr/>
          <p:nvPr/>
        </p:nvGrpSpPr>
        <p:grpSpPr>
          <a:xfrm>
            <a:off x="3206880" y="5194440"/>
            <a:ext cx="3028680" cy="742680"/>
            <a:chOff x="3206880" y="5194440"/>
            <a:chExt cx="3028680" cy="742680"/>
          </a:xfrm>
        </p:grpSpPr>
        <p:pic>
          <p:nvPicPr>
            <p:cNvPr id="650" name="AutoShape 10" descr=""/>
            <p:cNvPicPr/>
            <p:nvPr/>
          </p:nvPicPr>
          <p:blipFill>
            <a:blip r:embed="rId5"/>
            <a:stretch/>
          </p:blipFill>
          <p:spPr>
            <a:xfrm>
              <a:off x="3206880" y="5194440"/>
              <a:ext cx="302868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3278160" y="5265720"/>
              <a:ext cx="2835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rust framework authoriti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2" name="AutoShape 19"/>
          <p:cNvGrpSpPr/>
          <p:nvPr/>
        </p:nvGrpSpPr>
        <p:grpSpPr>
          <a:xfrm>
            <a:off x="2389320" y="1908000"/>
            <a:ext cx="871560" cy="414360"/>
            <a:chOff x="2389320" y="1908000"/>
            <a:chExt cx="871560" cy="414360"/>
          </a:xfrm>
        </p:grpSpPr>
        <p:pic>
          <p:nvPicPr>
            <p:cNvPr id="653" name="AutoShape 19" descr=""/>
            <p:cNvPicPr/>
            <p:nvPr/>
          </p:nvPicPr>
          <p:blipFill>
            <a:blip r:embed="rId6"/>
            <a:stretch/>
          </p:blipFill>
          <p:spPr>
            <a:xfrm>
              <a:off x="2389320" y="1908000"/>
              <a:ext cx="8715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 rot="5400000">
              <a:off x="2730600" y="1753200"/>
              <a:ext cx="193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5" name="AutoShape 19"/>
          <p:cNvGrpSpPr/>
          <p:nvPr/>
        </p:nvGrpSpPr>
        <p:grpSpPr>
          <a:xfrm>
            <a:off x="6229440" y="1908000"/>
            <a:ext cx="873000" cy="414360"/>
            <a:chOff x="6229440" y="1908000"/>
            <a:chExt cx="873000" cy="414360"/>
          </a:xfrm>
        </p:grpSpPr>
        <p:pic>
          <p:nvPicPr>
            <p:cNvPr id="656" name="AutoShape 19" descr=""/>
            <p:cNvPicPr/>
            <p:nvPr/>
          </p:nvPicPr>
          <p:blipFill>
            <a:blip r:embed="rId7"/>
            <a:stretch/>
          </p:blipFill>
          <p:spPr>
            <a:xfrm>
              <a:off x="6229440" y="1908000"/>
              <a:ext cx="8730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 rot="5400000">
              <a:off x="6569280" y="1753200"/>
              <a:ext cx="193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8" name="AutoShape 19"/>
          <p:cNvGrpSpPr/>
          <p:nvPr/>
        </p:nvGrpSpPr>
        <p:grpSpPr>
          <a:xfrm>
            <a:off x="4438800" y="1206360"/>
            <a:ext cx="419040" cy="354240"/>
            <a:chOff x="4438800" y="1206360"/>
            <a:chExt cx="419040" cy="354240"/>
          </a:xfrm>
        </p:grpSpPr>
        <p:pic>
          <p:nvPicPr>
            <p:cNvPr id="659" name="AutoShape 19" descr=""/>
            <p:cNvPicPr/>
            <p:nvPr/>
          </p:nvPicPr>
          <p:blipFill>
            <a:blip r:embed="rId8"/>
            <a:stretch/>
          </p:blipFill>
          <p:spPr>
            <a:xfrm>
              <a:off x="4438800" y="1206360"/>
              <a:ext cx="419040" cy="3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4552920" y="1268280"/>
              <a:ext cx="1936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1" name="AutoShape 9"/>
          <p:cNvSpPr/>
          <p:nvPr/>
        </p:nvSpPr>
        <p:spPr>
          <a:xfrm>
            <a:off x="3367080" y="4006800"/>
            <a:ext cx="2590920" cy="914400"/>
          </a:xfrm>
          <a:prstGeom prst="horizontalScroll">
            <a:avLst>
              <a:gd name="adj" fmla="val 12500"/>
            </a:avLst>
          </a:prstGeom>
          <a:solidFill>
            <a:srgbClr val="4a95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ical Certifica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2" name="Group 11"/>
          <p:cNvGrpSpPr/>
          <p:nvPr/>
        </p:nvGrpSpPr>
        <p:grpSpPr>
          <a:xfrm>
            <a:off x="1518480" y="2804760"/>
            <a:ext cx="6287760" cy="525960"/>
            <a:chOff x="1518480" y="2804760"/>
            <a:chExt cx="6287760" cy="525960"/>
          </a:xfrm>
        </p:grpSpPr>
        <p:cxnSp>
          <p:nvCxnSpPr>
            <p:cNvPr id="663" name="AutoShape 19"/>
            <p:cNvCxnSpPr/>
            <p:nvPr/>
          </p:nvCxnSpPr>
          <p:spPr>
            <a:xfrm flipH="1" flipV="1" rot="5400000">
              <a:off x="5974560" y="1499040"/>
              <a:ext cx="500760" cy="3162960"/>
            </a:xfrm>
            <a:prstGeom prst="curvedConnector5">
              <a:avLst>
                <a:gd name="adj1" fmla="val 53812"/>
                <a:gd name="adj2" fmla="val 49994"/>
                <a:gd name="adj3" fmla="val 53812"/>
              </a:avLst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64" name="AutoShape 20"/>
            <p:cNvCxnSpPr/>
            <p:nvPr/>
          </p:nvCxnSpPr>
          <p:spPr>
            <a:xfrm flipV="1" rot="16200000">
              <a:off x="2818080" y="1505160"/>
              <a:ext cx="526320" cy="3125160"/>
            </a:xfrm>
            <a:prstGeom prst="curvedConnector5">
              <a:avLst>
                <a:gd name="adj1" fmla="val 53593"/>
                <a:gd name="adj2" fmla="val 50000"/>
                <a:gd name="adj3" fmla="val 53593"/>
              </a:avLst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65" name="Right Arrow 15"/>
          <p:cNvSpPr/>
          <p:nvPr/>
        </p:nvSpPr>
        <p:spPr>
          <a:xfrm>
            <a:off x="3019320" y="3532320"/>
            <a:ext cx="351000" cy="392040"/>
          </a:xfrm>
          <a:prstGeom prst="rightArrow">
            <a:avLst>
              <a:gd name="adj1" fmla="val 50000"/>
              <a:gd name="adj2" fmla="val 26551"/>
            </a:avLst>
          </a:prstGeom>
          <a:solidFill>
            <a:srgbClr val="279d9a">
              <a:alpha val="78000"/>
            </a:srgbClr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3367080" y="3205080"/>
            <a:ext cx="2590920" cy="914400"/>
          </a:xfrm>
          <a:prstGeom prst="horizontalScroll">
            <a:avLst>
              <a:gd name="adj" fmla="val 12500"/>
            </a:avLst>
          </a:prstGeom>
          <a:solidFill>
            <a:srgbClr val="279d9a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licy Certifica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AutoShape 9"/>
          <p:cNvSpPr/>
          <p:nvPr/>
        </p:nvSpPr>
        <p:spPr>
          <a:xfrm>
            <a:off x="501480" y="3311640"/>
            <a:ext cx="2514600" cy="761760"/>
          </a:xfrm>
          <a:prstGeom prst="ellipse">
            <a:avLst/>
          </a:prstGeom>
          <a:solidFill>
            <a:srgbClr val="279d9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licy Interop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Bent Arrow 18"/>
          <p:cNvSpPr/>
          <p:nvPr/>
        </p:nvSpPr>
        <p:spPr>
          <a:xfrm rot="16200000">
            <a:off x="1434240" y="4011840"/>
            <a:ext cx="1555560" cy="1795680"/>
          </a:xfrm>
          <a:prstGeom prst="pie">
            <a:avLst/>
          </a:prstGeom>
          <a:solidFill>
            <a:srgbClr val="279d9a">
              <a:alpha val="78000"/>
            </a:srgbClr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9" name="AutoShape 19"/>
          <p:cNvGrpSpPr/>
          <p:nvPr/>
        </p:nvGrpSpPr>
        <p:grpSpPr>
          <a:xfrm>
            <a:off x="4438800" y="4957920"/>
            <a:ext cx="419040" cy="291960"/>
            <a:chOff x="4438800" y="4957920"/>
            <a:chExt cx="419040" cy="291960"/>
          </a:xfrm>
        </p:grpSpPr>
        <p:pic>
          <p:nvPicPr>
            <p:cNvPr id="670" name="AutoShape 19" descr=""/>
            <p:cNvPicPr/>
            <p:nvPr/>
          </p:nvPicPr>
          <p:blipFill>
            <a:blip r:embed="rId9"/>
            <a:stretch/>
          </p:blipFill>
          <p:spPr>
            <a:xfrm>
              <a:off x="4438800" y="4957920"/>
              <a:ext cx="4190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4552920" y="5008680"/>
              <a:ext cx="19368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ness/Transpar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bility/Accoun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CF9AD-1E0F-4718-AE9F-232895306EF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 txBox="1"/>
          <p:nvPr/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IF makes it easy for anyone of any size to ensure technical or policy interop with their choice of pro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minates the n-squared problem of multi-lateral interop testing or trust agre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ly become unwieldy for even a small number of IdPs and R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s the market for every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network effect for trus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46928-D4F5-4931-94B0-446751C8409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89E35-8A80-4533-B3F6-CBCF4DB0DF0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9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ly implemented, the OITF provides an open, transparent process for trusted identity trans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within and between comm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s protect participants from collusion or anti-trust 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cipates cross-border data protection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C8069-9F4B-4DCA-B92C-C6143A320A3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2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articipant (policy authority, IdP, RP, assessor/auditor) reinforces the credibility of the entir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tual accountability of all 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hanced by government partici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’ts serve as the initial “trust anchor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8309F-435D-4A8A-B083-337ECC76BAC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5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interoperability of Internet identity across websi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consistent ceremony leads to lower login or transaction abandonment at R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ent trust mark raises user confi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38BE2-3518-4CD1-9103-50FF9E9DAE4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pen Identity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he OIF will drive ado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E778F-BAF8-49E3-A718-145E0B5F21D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8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effici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legal, design, and operations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overhead for assessors/auditors, IdPs, and RPs who need cert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effici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entity for negotiation of MOAs with policy author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iv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+1=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1A906-D7F0-4223-8D28-D911ED87B68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1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ase contact either foundation with questions or com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don@oidf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director@informationcard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us know if your organization is intere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96251-2A22-482D-AF3C-3C3E94C092D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309160" cy="10605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are clo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a, MasterCard, AMEX credit card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one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M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re o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itical, social, religious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re explicit (legal agree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re implicit (social contrac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8254F-D38A-40C1-BF3A-32F86030003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7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pril, the U.S. government asked the OIDF and ICF to create a trust framework for OpenID and Information C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ould enable U.S. government websites to begin accepting OpenID and Information Card credent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SA ICAM relying party require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(not just US citize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icit (legal documentation of certification to NIST levels of assu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et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17E79-D492-4334-AFF0-6DC4ACEAC80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the first set of deliverables at IDmanagement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ty Scheme Adoption Process (ISA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ust Framework Provider Adoption Process (TFPA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open identity scheme profiles completed under the ISAP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AF9C9-9088-473B-9BE8-0BB5DD2D241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ID LOA 1 profile is now implemented across tens of millions of OpenID ac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/pilot infrastructure bui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IdP implementations te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 customer (National Institute of Health) with test 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I Information Cards 1.0 profile covers LOA 1, 2, and non-PKI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61756-0306-4909-A911-65846474568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6" name="Oval 11"/>
          <p:cNvGrpSpPr/>
          <p:nvPr/>
        </p:nvGrpSpPr>
        <p:grpSpPr>
          <a:xfrm>
            <a:off x="3786120" y="4591080"/>
            <a:ext cx="1425600" cy="1425600"/>
            <a:chOff x="3786120" y="4591080"/>
            <a:chExt cx="1425600" cy="1425600"/>
          </a:xfrm>
        </p:grpSpPr>
        <p:pic>
          <p:nvPicPr>
            <p:cNvPr id="527" name="Oval 11" descr=""/>
            <p:cNvPicPr/>
            <p:nvPr/>
          </p:nvPicPr>
          <p:blipFill>
            <a:blip r:embed="rId1"/>
            <a:stretch/>
          </p:blipFill>
          <p:spPr>
            <a:xfrm>
              <a:off x="3786120" y="4591080"/>
              <a:ext cx="14256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4016520" y="4819680"/>
              <a:ext cx="915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9" name="Rectangle 2" descr=""/>
          <p:cNvPicPr/>
          <p:nvPr/>
        </p:nvPicPr>
        <p:blipFill>
          <a:blip r:embed="rId2"/>
          <a:stretch/>
        </p:blipFill>
        <p:spPr>
          <a:xfrm>
            <a:off x="500040" y="54288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best implement the pro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best implement the trus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Picture 4" descr="female user"/>
          <p:cNvPicPr/>
          <p:nvPr/>
        </p:nvPicPr>
        <p:blipFill>
          <a:blip r:embed="rId3"/>
          <a:stretch/>
        </p:blipFill>
        <p:spPr>
          <a:xfrm>
            <a:off x="4159080" y="4778280"/>
            <a:ext cx="659160" cy="990720"/>
          </a:xfrm>
          <a:prstGeom prst="rect">
            <a:avLst/>
          </a:prstGeom>
          <a:ln w="0">
            <a:noFill/>
          </a:ln>
        </p:spPr>
      </p:pic>
      <p:grpSp>
        <p:nvGrpSpPr>
          <p:cNvPr id="532" name="Rectangle 5"/>
          <p:cNvGrpSpPr/>
          <p:nvPr/>
        </p:nvGrpSpPr>
        <p:grpSpPr>
          <a:xfrm>
            <a:off x="1103400" y="2932200"/>
            <a:ext cx="2036520" cy="1859040"/>
            <a:chOff x="1103400" y="2932200"/>
            <a:chExt cx="2036520" cy="1859040"/>
          </a:xfrm>
        </p:grpSpPr>
        <p:pic>
          <p:nvPicPr>
            <p:cNvPr id="533" name="Rectangle 5" descr=""/>
            <p:cNvPicPr/>
            <p:nvPr/>
          </p:nvPicPr>
          <p:blipFill>
            <a:blip r:embed="rId4"/>
            <a:stretch/>
          </p:blipFill>
          <p:spPr>
            <a:xfrm>
              <a:off x="1103400" y="2932200"/>
              <a:ext cx="20365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43000" y="2971800"/>
              <a:ext cx="190512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Identity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Provider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(IdP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5" name="AutoShape 6"/>
          <p:cNvGrpSpPr/>
          <p:nvPr/>
        </p:nvGrpSpPr>
        <p:grpSpPr>
          <a:xfrm>
            <a:off x="5840280" y="2852640"/>
            <a:ext cx="2419560" cy="1878120"/>
            <a:chOff x="5840280" y="2852640"/>
            <a:chExt cx="2419560" cy="1878120"/>
          </a:xfrm>
        </p:grpSpPr>
        <p:pic>
          <p:nvPicPr>
            <p:cNvPr id="536" name="AutoShape 6" descr=""/>
            <p:cNvPicPr/>
            <p:nvPr/>
          </p:nvPicPr>
          <p:blipFill>
            <a:blip r:embed="rId5"/>
            <a:stretch/>
          </p:blipFill>
          <p:spPr>
            <a:xfrm>
              <a:off x="5840280" y="2852640"/>
              <a:ext cx="241956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6453360" y="3770280"/>
              <a:ext cx="114300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Rely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Parti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(RP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8" name="AutoShape 9"/>
          <p:cNvGrpSpPr/>
          <p:nvPr/>
        </p:nvGrpSpPr>
        <p:grpSpPr>
          <a:xfrm>
            <a:off x="3157560" y="2651040"/>
            <a:ext cx="2878200" cy="909720"/>
            <a:chOff x="3157560" y="2651040"/>
            <a:chExt cx="2878200" cy="909720"/>
          </a:xfrm>
        </p:grpSpPr>
        <p:pic>
          <p:nvPicPr>
            <p:cNvPr id="539" name="AutoShape 9" descr=""/>
            <p:cNvPicPr/>
            <p:nvPr/>
          </p:nvPicPr>
          <p:blipFill>
            <a:blip r:embed="rId6"/>
            <a:stretch/>
          </p:blipFill>
          <p:spPr>
            <a:xfrm>
              <a:off x="3157560" y="2651040"/>
              <a:ext cx="287820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3454560" y="2889360"/>
              <a:ext cx="22348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Policy interop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1" name="AutoShape 10"/>
          <p:cNvGrpSpPr/>
          <p:nvPr/>
        </p:nvGrpSpPr>
        <p:grpSpPr>
          <a:xfrm>
            <a:off x="3157560" y="3517920"/>
            <a:ext cx="2878200" cy="834840"/>
            <a:chOff x="3157560" y="3517920"/>
            <a:chExt cx="2878200" cy="834840"/>
          </a:xfrm>
        </p:grpSpPr>
        <p:pic>
          <p:nvPicPr>
            <p:cNvPr id="542" name="AutoShape 10" descr=""/>
            <p:cNvPicPr/>
            <p:nvPr/>
          </p:nvPicPr>
          <p:blipFill>
            <a:blip r:embed="rId7"/>
            <a:stretch/>
          </p:blipFill>
          <p:spPr>
            <a:xfrm>
              <a:off x="3157560" y="3517920"/>
              <a:ext cx="2878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3429000" y="3735360"/>
              <a:ext cx="22860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chnical interop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4" name="AutoShape 7"/>
          <p:cNvGrpSpPr/>
          <p:nvPr/>
        </p:nvGrpSpPr>
        <p:grpSpPr>
          <a:xfrm>
            <a:off x="3011400" y="4395960"/>
            <a:ext cx="987480" cy="699840"/>
            <a:chOff x="3011400" y="4395960"/>
            <a:chExt cx="987480" cy="699840"/>
          </a:xfrm>
        </p:grpSpPr>
        <p:pic>
          <p:nvPicPr>
            <p:cNvPr id="545" name="AutoShape 7" descr=""/>
            <p:cNvPicPr/>
            <p:nvPr/>
          </p:nvPicPr>
          <p:blipFill>
            <a:blip r:embed="rId8"/>
            <a:stretch/>
          </p:blipFill>
          <p:spPr>
            <a:xfrm>
              <a:off x="3011400" y="4395960"/>
              <a:ext cx="9874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 rot="1585800">
              <a:off x="3069720" y="4644720"/>
              <a:ext cx="819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7" name="AutoShape 7"/>
          <p:cNvGrpSpPr/>
          <p:nvPr/>
        </p:nvGrpSpPr>
        <p:grpSpPr>
          <a:xfrm>
            <a:off x="4979880" y="4395960"/>
            <a:ext cx="987480" cy="699840"/>
            <a:chOff x="4979880" y="4395960"/>
            <a:chExt cx="987480" cy="699840"/>
          </a:xfrm>
        </p:grpSpPr>
        <p:pic>
          <p:nvPicPr>
            <p:cNvPr id="548" name="AutoShape 7" descr=""/>
            <p:cNvPicPr/>
            <p:nvPr/>
          </p:nvPicPr>
          <p:blipFill>
            <a:blip r:embed="rId9"/>
            <a:stretch/>
          </p:blipFill>
          <p:spPr>
            <a:xfrm>
              <a:off x="4979880" y="4395960"/>
              <a:ext cx="9874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 rot="20013600">
              <a:off x="5040360" y="4644720"/>
              <a:ext cx="8175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C7016-60DA-4C33-B3D5-B178FCBA67C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ugust, OIDF and ICF published a joint white paper saying an open, Internet-scale approach to trust frameworks must b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o any trust framework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o all IdPs and R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o any qualified assessor/aud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o any qualified certification process (including self-certific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o evolution and adaptation to market fo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55D9A-88EF-41BE-A607-C2B33858C8D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4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pen Internet-scale trust framework must al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er both Levels of Assurance (LOA) for IdPs and Levels of Protection (LOP) for R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 means for dealing with li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 simple, useful, scalable listing 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 open and transparent in its dealings, use public documents written in plain language, and provide frequent reports on all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09:35Z</dcterms:created>
  <dc:creator>Julie Cosgrove</dc:creator>
  <dc:description/>
  <dc:language>en-US</dc:language>
  <cp:lastModifiedBy>Drummond Reed</cp:lastModifiedBy>
  <dcterms:modified xsi:type="dcterms:W3CDTF">2009-11-22T23:59:28Z</dcterms:modified>
  <cp:revision>6</cp:revision>
  <dc:subject/>
  <dc:title>The Open Identity Framework</dc:title>
</cp:coreProperties>
</file>